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092-B77F-4995-AD6A-853161A7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34B-29F6-4031-B300-2ECF4C7E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E6D-76EB-49E5-A4F4-7402ADCC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A7E-5A02-407C-8943-35F78850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F1A-3656-4FEF-8F0B-0210590D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3D6-F86F-4F89-9D55-BE9B05E2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5AB-C498-4542-A678-E6E6127B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2F7-7718-4D6C-A9E5-606D4BFF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64D-3A9C-4723-AAA1-1DD8C406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649-CFCE-47AE-82BA-6A32BE47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DEC-E6AF-4A6E-964C-2CFCF6CC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A4E-ADC2-4B0F-B461-20E1D835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3839-232D-4966-B261-B69A980E0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557360"/>
            <a:ext cx="7921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cb34fa"/>
                </a:solidFill>
                <a:latin typeface="Arial"/>
              </a:rPr>
              <a:t>Сабақтың тақырыбы: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cb34fa"/>
                </a:solidFill>
                <a:latin typeface="Arial"/>
              </a:rPr>
              <a:t>Кел төрле, мерейлі Наурыз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09760" y="189000"/>
            <a:ext cx="40546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1061280"/>
            <a:ext cx="8893080" cy="5366880"/>
            <a:chOff x="0" y="1061280"/>
            <a:chExt cx="8893080" cy="5366880"/>
          </a:xfrm>
        </p:grpSpPr>
        <p:sp>
          <p:nvSpPr>
            <p:cNvPr id="53" name=""/>
            <p:cNvSpPr/>
            <p:nvPr/>
          </p:nvSpPr>
          <p:spPr>
            <a:xfrm>
              <a:off x="1839960" y="1061280"/>
              <a:ext cx="1533240" cy="91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Салт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дәстү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226880" y="1827720"/>
              <a:ext cx="76680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06400" y="1980720"/>
              <a:ext cx="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19480" y="1827720"/>
              <a:ext cx="1072800" cy="10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901600"/>
              <a:ext cx="168480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шешенді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39960" y="3054240"/>
              <a:ext cx="1530720" cy="46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беташ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25840" y="2901600"/>
              <a:ext cx="122688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айты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40040" y="1061280"/>
              <a:ext cx="1379520" cy="91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Салт-дәстү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06840" y="1980720"/>
              <a:ext cx="0" cy="76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66200" y="1827720"/>
              <a:ext cx="613800" cy="76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979960" y="1827720"/>
              <a:ext cx="612720" cy="9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59440" y="2748600"/>
              <a:ext cx="1073160" cy="76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тұсау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кес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46760" y="2748600"/>
              <a:ext cx="1072800" cy="76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жар-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ж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72560" y="2594880"/>
              <a:ext cx="9201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ба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39960" y="4128480"/>
              <a:ext cx="1533240" cy="91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Салт- дәстү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86680" y="4128480"/>
              <a:ext cx="1532880" cy="91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Салт-дәстү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06400" y="5048280"/>
              <a:ext cx="0" cy="76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19480" y="4894560"/>
              <a:ext cx="613800" cy="61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53120" y="5048280"/>
              <a:ext cx="0" cy="9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66200" y="4894560"/>
              <a:ext cx="613800" cy="61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825520" y="4894560"/>
              <a:ext cx="613800" cy="61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226880" y="4894560"/>
              <a:ext cx="766800" cy="61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6360" y="5508720"/>
              <a:ext cx="1533240" cy="45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құда түс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93680" y="5815440"/>
              <a:ext cx="1225440" cy="45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сүйінш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25840" y="5508720"/>
              <a:ext cx="1226880" cy="45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шілдех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59440" y="5508720"/>
              <a:ext cx="1073160" cy="45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ас бе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40040" y="5968080"/>
              <a:ext cx="122580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көк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9920" y="5508720"/>
              <a:ext cx="1073160" cy="61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400" spc="-1" strike="noStrike">
                  <a:solidFill>
                    <a:srgbClr val="000000"/>
                  </a:solidFill>
                  <a:latin typeface="Arial"/>
                </a:rPr>
                <a:t>Наурыз т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47640" y="255960"/>
            <a:ext cx="619308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800" spc="-1" strike="noStrike">
                <a:solidFill>
                  <a:srgbClr val="cb34fa"/>
                </a:solidFill>
                <a:latin typeface="Arial"/>
              </a:rPr>
              <a:t>               </a:t>
            </a:r>
            <a:r>
              <a:rPr b="0" lang="kk-KZ" sz="3800" spc="-1" strike="noStrike">
                <a:solidFill>
                  <a:srgbClr val="cb34fa"/>
                </a:solidFill>
                <a:latin typeface="Arial"/>
              </a:rPr>
              <a:t>Наурыз бат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b34fa"/>
                </a:solidFill>
                <a:latin typeface="Arial"/>
              </a:rPr>
              <a:t>Ұлыс оң болсын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b34fa"/>
                </a:solidFill>
                <a:latin typeface="Arial"/>
              </a:rPr>
              <a:t>Ақ мол болсын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b34fa"/>
                </a:solidFill>
                <a:latin typeface="Arial"/>
              </a:rPr>
              <a:t>Қайда барсаң жол болсын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b34fa"/>
                </a:solidFill>
                <a:latin typeface="Arial"/>
              </a:rPr>
              <a:t>Ұлыс бақты болсын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b34fa"/>
                </a:solidFill>
                <a:latin typeface="Arial"/>
              </a:rPr>
              <a:t>Төрт түлік ақты болсын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b34fa"/>
                </a:solidFill>
                <a:latin typeface="Arial"/>
              </a:rPr>
              <a:t>Ұлыс береке берсін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b34fa"/>
                </a:solidFill>
                <a:latin typeface="Arial"/>
              </a:rPr>
              <a:t>Бәле-жала жерге енсін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b34fa"/>
                </a:solidFill>
                <a:latin typeface="Arial"/>
              </a:rPr>
              <a:t>Әумин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6440" y="980640"/>
            <a:ext cx="8821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cb34fa"/>
                </a:solidFill>
                <a:latin typeface="Arial"/>
              </a:rPr>
              <a:t>Қадірлі ұстаздар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cb34fa"/>
                </a:solidFill>
                <a:latin typeface="Arial"/>
              </a:rPr>
              <a:t>Тәлім беріп бар бала мен бар қызғ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cb34fa"/>
                </a:solidFill>
                <a:latin typeface="Arial"/>
              </a:rPr>
              <a:t>Бақытты өмір сүріңіздер Наурызд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801360"/>
            <a:ext cx="7920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b34fa"/>
                </a:solidFill>
                <a:latin typeface="Arial"/>
              </a:rPr>
              <a:t> </a:t>
            </a:r>
            <a:r>
              <a:rPr b="0" lang="kk-KZ" sz="4500" spc="-1" strike="noStrike">
                <a:solidFill>
                  <a:srgbClr val="cb34fa"/>
                </a:solidFill>
                <a:latin typeface="Arial"/>
              </a:rPr>
              <a:t>Сабақтың мақсаты:</a:t>
            </a:r>
            <a:r>
              <a:rPr b="0" lang="kk-KZ" sz="3300" spc="-1" strike="noStrike">
                <a:solidFill>
                  <a:srgbClr val="cb34fa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300" spc="-1" strike="noStrike">
                <a:solidFill>
                  <a:srgbClr val="cb34fa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300" spc="-1" strike="noStrike">
                <a:solidFill>
                  <a:srgbClr val="cb34fa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cb34fa"/>
                </a:solidFill>
                <a:latin typeface="Arial"/>
              </a:rPr>
              <a:t>«Наурыз мейрамы» туралы түсінік беру арқылы қазақ халқының салт-дәстүрін көрсету және оны құрметтей білуге тәрбиеле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780840"/>
            <a:ext cx="8748720" cy="51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b34fa"/>
                </a:solidFill>
                <a:latin typeface="Arial"/>
              </a:rPr>
              <a:t>Тапсырмала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b34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cb34fa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cb34fa"/>
                </a:solidFill>
                <a:latin typeface="Arial"/>
              </a:rPr>
              <a:t>Дүниеде не тәтті, не жұмсақ, не жеті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cb34fa"/>
                </a:solidFill>
                <a:latin typeface="Arial"/>
              </a:rPr>
              <a:t>2. Қандай ырым мен тыйым сөздер білесіңде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cb34fa"/>
                </a:solidFill>
                <a:latin typeface="Arial"/>
              </a:rPr>
              <a:t>3. Жеті атаңды 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cb34fa"/>
                </a:solidFill>
                <a:latin typeface="Arial"/>
              </a:rPr>
              <a:t>4. Сүттен жасалған тағамдарды 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46480" y="640440"/>
            <a:ext cx="812232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cb34fa"/>
                </a:solidFill>
                <a:latin typeface="Arial"/>
              </a:rPr>
              <a:t>5. Наурыз көже қалай жасала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cb34fa"/>
                </a:solidFill>
                <a:latin typeface="Arial"/>
              </a:rPr>
              <a:t>6. Ұлттық ойындарды 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cb34fa"/>
                </a:solidFill>
                <a:latin typeface="Arial"/>
              </a:rPr>
              <a:t>7. Жеті қазынаны 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cb34fa"/>
                </a:solidFill>
                <a:latin typeface="Arial"/>
              </a:rPr>
              <a:t>8. Үш алысты 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76068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b34fa"/>
                </a:solidFill>
                <a:latin typeface="Arial"/>
              </a:rPr>
              <a:t>4. Айран, сүт, ірімшік, құрт, қатық, қаймақ, шұбат, қымыз, май, іркіт т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b34fa"/>
                </a:solidFill>
                <a:latin typeface="Arial"/>
              </a:rPr>
              <a:t>5. Наурыз көже жеті түрлі тағамнан жаса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b34fa"/>
                </a:solidFill>
                <a:latin typeface="Arial"/>
              </a:rPr>
              <a:t>Ет, сүт, су, тұз, тары, құрт, мейі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b34fa"/>
                </a:solidFill>
                <a:latin typeface="Arial"/>
              </a:rPr>
              <a:t>6. Алтыбақан, аударыспақ, қыз қуу, көкпар тарту, ат жарыс, теңге алу, ақсүйек, тоғызқұмалақ т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b34fa"/>
                </a:solidFill>
                <a:latin typeface="Arial"/>
              </a:rPr>
              <a:t>7. Ер жігіт, сұлу әйел, ақыл – білім, жүйрік ат, қыран бүркіт, берен мылтық, құмай т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99440" cy="5375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333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b34fa"/>
                </a:solidFill>
                <a:latin typeface="Arial"/>
              </a:rPr>
              <a:t>Қазақтың ұлттық тағамд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12144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389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f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7058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7:53:32Z</dcterms:created>
  <dc:creator>User</dc:creator>
  <dc:description/>
  <dc:language>en-US</dc:language>
  <cp:lastModifiedBy>User</cp:lastModifiedBy>
  <dcterms:modified xsi:type="dcterms:W3CDTF">2008-03-15T08:26:26Z</dcterms:modified>
  <cp:revision>2</cp:revision>
  <dc:subject/>
  <dc:title>Слайд 1</dc:title>
</cp:coreProperties>
</file>