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8B5-CD81-40DB-9A89-BFD81863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197-3299-42FF-B749-0D235318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3C5-F60B-44BF-8DA7-065D67D9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6A8-BB05-4CD1-8F3D-C1C95115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19F5-293F-4DDD-8612-DA2AF160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7DF3-FC39-4CC3-BDB6-B4CA138B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AA42-B52F-43BC-87FC-99C7285F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2200-3ABC-4C4F-BECE-72D03512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98D5-1FFE-4EA9-8153-77F4F014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6684-4000-42EB-B796-2EF9CEF1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6EB4-C803-4F6E-91D5-5F255710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8EC-0559-49A5-AB6B-015AC256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A935-2FD1-47E3-8381-9E2E49A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B8C6-6BF7-49F0-AC80-6B351BB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301E-AFE0-4A95-91B4-4E29F406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0A3D-EA4C-49E0-9F58-2E4918A1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E5F7-C6D6-46BC-808F-E5100C79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533-AD60-4432-9BE7-458C3C56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635-8612-4D1F-97D5-9038EAD8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2AC-4B54-414A-B322-68728D2E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9C8-8221-41DB-87C8-1629C7B0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034-E676-4AC0-8F41-90C363FD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F73-84B3-4FFB-B558-FC500FF0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DDD-C7B3-4ECF-873D-52E6B67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380C-C9D8-45C7-BA6C-A27F355268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224A-CDC0-4BC4-9B6B-D2842A0B3E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1628640"/>
            <a:ext cx="727236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1" lang="kk-KZ" sz="5500" spc="-1" strike="noStrike">
                <a:solidFill>
                  <a:srgbClr val="000000"/>
                </a:solidFill>
                <a:latin typeface="Arial"/>
              </a:rPr>
              <a:t>қырыбы</a:t>
            </a: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500" spc="-1" strike="noStrike">
                <a:solidFill>
                  <a:srgbClr val="000000"/>
                </a:solidFill>
                <a:latin typeface="Arial"/>
              </a:rPr>
              <a:t>«Мемлекеттік тілдің қазіргі жағдайы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8360" y="1700280"/>
            <a:ext cx="7848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800" spc="-1" strike="noStrike">
                <a:solidFill>
                  <a:srgbClr val="000000"/>
                </a:solidFill>
                <a:latin typeface="Arial"/>
              </a:rPr>
              <a:t>«ұмыту, бойымызға, Анамыздың, бүкіл, тілімізді, ақ, дарыған, ата –– бабамызды, сүтімен, ұмыту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300" spc="-1" strike="noStrike">
                <a:solidFill>
                  <a:srgbClr val="000000"/>
                </a:solidFill>
                <a:latin typeface="Arial"/>
              </a:rPr>
              <a:t>Б. Момышұлы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1700280"/>
            <a:ext cx="78487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800" spc="-1" strike="noStrike">
                <a:solidFill>
                  <a:srgbClr val="000000"/>
                </a:solidFill>
                <a:latin typeface="Arial"/>
              </a:rPr>
              <a:t>«Анамыздың ақ сүтімен бойымызға дарыған тілімізді ұмыту – бүкіл ата – бабамызды ұмыту.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800" spc="-1" strike="noStrike">
                <a:solidFill>
                  <a:srgbClr val="000000"/>
                </a:solidFill>
                <a:latin typeface="Arial"/>
              </a:rPr>
              <a:t>Б. Момышұл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620640"/>
            <a:ext cx="820908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ақса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Қазақ тілін жетік білу мәселес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2. Тақырып бойынша сөздік қорын байыта отырып, ауызша сөйлеу дағдысын дамыт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3. Тілді құрметтеуге, тіл маңызын түсіне білуге баул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1341360"/>
            <a:ext cx="878544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989 жылы қыркүйектің 22-сі күні «Қазақстан Республикасының тілдер туралы» Заң қабылданып, қазақ тілі ҚР мемлекеттік тіл статусына ие болды. «Қазақстан Республикасының тілдер туралы» заңның 4-бабында былай деп жазылғ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«…Мемлекеттік тілді меңгеру – Қазақстан Республикасының әрбір азаматының парыз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«…долг каждого гражданина Республики Казахстан знать государственный язык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476280"/>
            <a:ext cx="2376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Arial"/>
              </a:rPr>
              <a:t>Тіл Заң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268280"/>
            <a:ext cx="842472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ҚР Әнүранының авторлары кі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2. Қазақстан қандай мемлеке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3. Қазақстан елтаңбасында не бейнеленген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4. Қазақстанның өз рәміздері бар 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5. Қазақстан жалауныда не бейнеленген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6. Қазақстанның әнұраны нені мадақтайд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7. Нені алтын қазына дейді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8. 22-қыркүйек қандай мере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476280"/>
            <a:ext cx="273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kk-KZ" sz="3500" spc="-1" strike="noStrike">
                <a:solidFill>
                  <a:srgbClr val="000000"/>
                </a:solidFill>
                <a:latin typeface="Arial"/>
              </a:rPr>
              <a:t>Дода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333360"/>
            <a:ext cx="8280360" cy="61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9. Қазақ тілі мемлекеттік тіл деп қайда жазылған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10. Елбасы Н. 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 Назарбаев тұңғыш Президент болып қай жылы сайланд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11. А. Байтұрсынов кі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12. Астана қаласы қай уақыттан бері Қазақстанның астанасы болд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13. Түркістан қаласында кімнің кесенесі бар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14. Қазақ тілі қай тілдер тобына жатад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15. Қай дылы екінші «ҚР Тіл туралы» Заңы қабылданд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03280" y="189000"/>
            <a:ext cx="5329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Өткірдің жүзі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Кестенің біз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Орнегін сендей сала алма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Arial"/>
              </a:rPr>
              <a:t>Аба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6000" y="2852640"/>
            <a:ext cx="7201080" cy="3311280"/>
            <a:chOff x="1116000" y="2852640"/>
            <a:chExt cx="7201080" cy="3311280"/>
          </a:xfrm>
        </p:grpSpPr>
        <p:sp>
          <p:nvSpPr>
            <p:cNvPr id="157" name=""/>
            <p:cNvSpPr/>
            <p:nvPr/>
          </p:nvSpPr>
          <p:spPr>
            <a:xfrm>
              <a:off x="4297680" y="4021200"/>
              <a:ext cx="1506960" cy="116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37600" y="4995360"/>
              <a:ext cx="66960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37600" y="3631320"/>
              <a:ext cx="83736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2880" y="3436920"/>
              <a:ext cx="669600" cy="77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460320" y="4800600"/>
              <a:ext cx="83736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32840" y="4215960"/>
              <a:ext cx="837000" cy="77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ті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16000" y="5190120"/>
              <a:ext cx="2344320" cy="9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рым – қатынас құра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85600" y="2852640"/>
              <a:ext cx="234432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Ұлттық қазы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4960" y="3047040"/>
              <a:ext cx="1674360" cy="58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Әдеби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74960" y="5579640"/>
              <a:ext cx="184212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Мәдени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26920" y="1844640"/>
            <a:ext cx="756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қал - мәтелде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8920" y="333360"/>
            <a:ext cx="676908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Тіл түйгенді тіс шеше алмай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2. Тіл тас жарады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Тас жармаса, бас жара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3. Кызыл тілін безені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Шешен жігіт дауда ойн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4. Ақ балтырын түрініп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Балуан жігіт тойда ойн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5. Сөз сүйектен өтеді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Таяқ еттен өтеді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6. Тілдің оғы – мірдің оғынан да қатт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7. Ер қазынасы – жүрген із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Ел қазынасы – көне көз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8. Өнер алды – қызыл ті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404640"/>
            <a:ext cx="295128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341360"/>
            <a:ext cx="395928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2276640"/>
            <a:ext cx="381636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92360" y="3213000"/>
            <a:ext cx="381636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4149720"/>
            <a:ext cx="280836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4724280"/>
            <a:ext cx="280800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92360" y="5589720"/>
            <a:ext cx="360036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6093000"/>
            <a:ext cx="201636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87280" y="192960"/>
            <a:ext cx="5558040" cy="62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9. Жер астында жатқанд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Қазбай қарап тіл таба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10. Тіл ерді қабырға салады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Нарды қазанға салад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11. Сөзден асқан байлық жоқ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Тілден асқан жүйрік жоқ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12. Ішімдегінің бәрі – тілімде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Тілімдегінің бәрі – түрімде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13. Сөз қадірін айтқан біле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Жол қадірін жортқан біле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14. Жыланның уы тісінд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Адамның уы тілінд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15. Сөз қадірін білмеген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Өз қадірін білмейді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16. Түз астың дәмін келтірсе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k-KZ" sz="2300" spc="-1" strike="noStrike">
                <a:solidFill>
                  <a:srgbClr val="000000"/>
                </a:solidFill>
                <a:latin typeface="Arial"/>
              </a:rPr>
              <a:t>Мақал сөздің сәнін келтіреді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620640"/>
            <a:ext cx="331164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1341360"/>
            <a:ext cx="338436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2133720"/>
            <a:ext cx="345744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2924280"/>
            <a:ext cx="374472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19280" y="3716280"/>
            <a:ext cx="374472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4508640"/>
            <a:ext cx="295272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5300640"/>
            <a:ext cx="280836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6093000"/>
            <a:ext cx="403236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52:46Z</dcterms:created>
  <dc:creator>администратор</dc:creator>
  <dc:description/>
  <dc:language>en-US</dc:language>
  <cp:lastModifiedBy>User</cp:lastModifiedBy>
  <dcterms:modified xsi:type="dcterms:W3CDTF">2008-03-14T05:22:57Z</dcterms:modified>
  <cp:revision>11</cp:revision>
  <dc:subject/>
  <dc:title>Слайд 1</dc:title>
</cp:coreProperties>
</file>