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3DD-1F23-449E-B9BF-3DD0C81C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E1E-0D90-41D1-8720-3EEF3AD5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6D4-3650-471B-A94B-C40FEEC0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680-EA4F-4871-8126-721F7834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5286-B755-4C7B-A6BA-4377993E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C82E-AA39-46F3-A434-682E6AC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882-4B53-4DC4-9BD3-620895C2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9F92-4249-447A-878D-8E7DF0F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F9D8-970B-4213-A536-4ACB7E70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DB75-1D95-456C-B92D-38E3686D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45C8-4561-4C78-BE4A-7F97607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30C-C49F-4868-B063-CAC5E28D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CD3A-B2D7-42EF-8BEB-3C78240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1292-C632-42E7-B709-3714C00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A776-26A3-48C1-A926-131B651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CC54-182B-4CCF-8847-8182621A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5A64-B5F2-432A-A9E1-EC73F67C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32E-346C-4E9B-B955-FC52BAC6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BEA-D086-4613-8B5A-188D80FE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5F8-01F7-4BE0-8541-907D41DE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6AA-AA24-4880-B787-90CB1ACF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681-D216-4B5A-AF3A-AD58BB3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B04-A462-4EBD-BBCD-E5DC857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F68-ABD4-498A-9174-DB0B1AD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6469-BE61-498A-BBE3-9522A2C57B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5E91-4A46-4308-B9E5-7B7A2B4DA5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2413080"/>
            <a:ext cx="8569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Қазақ тілінен панорамлық сабақ: </a:t>
            </a:r>
            <a:r>
              <a:rPr b="1" lang="ru-RU" sz="4400" spc="-1" strike="noStrike">
                <a:solidFill>
                  <a:srgbClr val="ffffcc"/>
                </a:solidFill>
                <a:latin typeface="Comic Sans MS"/>
              </a:rPr>
              <a:t>«</a:t>
            </a:r>
            <a:r>
              <a:rPr b="1" lang="kk-KZ" sz="5400" spc="-1" strike="noStrike">
                <a:solidFill>
                  <a:srgbClr val="ffffcc"/>
                </a:solidFill>
                <a:latin typeface="Tahoma"/>
              </a:rPr>
              <a:t>Қазақстан Республикасы – тәуелсіз ел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455616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қсай қаласының ЖББ №3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мектебінің қазақ тілі  мұғалімі Жумаева А.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жоспа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.  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ызығушылығын оя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ағынаны та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.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Толғаны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810252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2000" y="134100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. </a:t>
            </a: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Балалардың қызығушылығын оя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« Астана – жас қала» сахат-эссе  шығар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Ақмола облысы Республикамыздың орталық бөлігінде орналасқан. Ол 1937 жылы Ақмола жерінің аумағы 121,7 шаршы километр. Ірі өзені – Есіл. Көптеген көлдері бар, оның 94-і тұшы. Ұлан-байтақ , кең даласында астық өндіріледі. 1998 жылдан бастап Ақмоланың облыс орталығы Республикамыздың астанасы бол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1998 жылдың 6 мамырында Ақмола қаласы Астана болып өзгертілді. Ол киелі Сарыарқа даласының Есіл бойында орналасқан. Астана өсіп, өркендеп келе жатқан жас қала. Астанада қысы-жазы әдемі болып Республика даңғылы созылып жатыр. Алтын Орда, жастар сарайы, ислам орталығы, «Думан» ойын-сауық орталықтарына барып демалуға болады.Астана—бүкіл әлемді таңғалдырған жас қала. Егеменді елімнің осындай астанасын мақтан етемі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Сабақтың барысында таблицаны толтырып тұрамы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73080" y="5878440"/>
          <a:ext cx="7128000" cy="719280"/>
        </p:xfrm>
        <a:graphic>
          <a:graphicData uri="http://schemas.openxmlformats.org/drawingml/2006/table">
            <a:tbl>
              <a:tblPr/>
              <a:tblGrid>
                <a:gridCol w="2376720"/>
                <a:gridCol w="2374560"/>
                <a:gridCol w="2376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ілемі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ілді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ілгім келед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33956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I   </a:t>
            </a: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Мағынаны та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Оқулықтағы сызбалар бойынша жұмы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1 топ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1. Қазақстан  туралы мәтін құрастырыңд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тәуелсі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а) Қазақстан         егеменді  мемлек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еркі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мемлекеттік тілі            (қазақ тілі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б) Қазақстанның          тұңғыш президенті        (Н.Ә.Назарбае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рәміздері                      (ту,елтаңба, әнұра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2 топ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Қазақстан (тәуелсіздікті) 1991 жылдың  16 желтоқсанында ал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Қазақстан (елбасы)         1991 жылдың   1 желтоқсанында сайлан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Қазақстан (рәміздері)      1992 жылы     Жоғарғы кеңеспен қабылдан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Қазақстан (Ата заңы)      1995 жылы     30 тамызда қабылдан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4005000"/>
            <a:ext cx="5032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221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22100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79640" y="278136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2997360"/>
            <a:ext cx="503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5300640"/>
            <a:ext cx="57636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589720"/>
            <a:ext cx="576360" cy="288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877000"/>
            <a:ext cx="576360" cy="288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6165720"/>
            <a:ext cx="57636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Тәуелсіз Қазақст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Бұл дүниеде біздің бір ғана Отанымыз бар. Ол – тәуелсіз Қазақстан. Мемлекеттік тәуелсіздігіміз жарияланған бері Қазақстанды әлемнің жүзден астам елі таныды. Біздің  еліміз бірқатар аса беделді халықаралық ұйымдарға, оның ішінде Біріккен Ұлттар Ұйымына, Халықаралық валюта  қорына мүше болып қабылдан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Егеменді ел болып, халқымыз өз еркімен тұңғыш Президентін сай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Елтаңбамызды, Туымызды белгіледік. Қазақ тіліне мемлекеттік мәртебе берілд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1991 жылы қазақ жігіті Тоқтар Әубакіров ғарышқа ұшып, ұлттың  мерейін көтеред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Туған жерімізде талай- талай өркенді өзгерістер,  жақсы жаңалықтар болып жатыр.   Ең бастысы – тату- тәтті ынтымағы жарасқан көп ұлтты халқымыз ба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Біздің туымыз – тәуелсіздік, тілегіміз – бейбітшілік, тыныштық. Еліміздің тұтастығын, жеріміздің бүтіндігін, халықтарымыздың жарастығын аман сақтау- әрбір азаматтың борыш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Біздің елімізде газеттер 11 тілде шығады, теледидарды 12 тілде көріп, радионы 6 тілде тындап жүрмі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Жұппен жұмыс : Қазақстанның презентациясын жа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Слайд: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Егеменді Қазақстан мемлекеті ( сур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Слайд: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Көп ұлтты  мемлекет. Мемлекеттік тілі- қазақ тілі, ресми тілі- орыс  тілі. Халықаралық тілі- ағылшын тіл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Слайд: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Қазақстанның жер көлемі 2724,9 –ның шаршы км.  16 млн. халқы б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Слайд: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Қаз- ның 186 қаласы, 14 облысы б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Слайд: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Қазақстан Ресеймен, Өзбекстанмен, Қырғызстанмен, Түркменстанмен, Қытаймен шекарал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Қай жұптың презентациясы жақсы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08000" y="2276640"/>
            <a:ext cx="5329440" cy="3170160"/>
            <a:chOff x="1908000" y="2276640"/>
            <a:chExt cx="5329440" cy="3170160"/>
          </a:xfrm>
        </p:grpSpPr>
        <p:sp>
          <p:nvSpPr>
            <p:cNvPr id="157" name=""/>
            <p:cNvSpPr/>
            <p:nvPr/>
          </p:nvSpPr>
          <p:spPr>
            <a:xfrm>
              <a:off x="4140360" y="2276640"/>
              <a:ext cx="3097080" cy="3097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08000" y="2349360"/>
              <a:ext cx="3097440" cy="309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0360" y="2276640"/>
              <a:ext cx="3097080" cy="3097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4000" y="2997360"/>
              <a:ext cx="1895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Халқы көп. Табиғаты қатты, өзендері көп, көлдері көп.Жас қал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57720" y="3578400"/>
              <a:ext cx="108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Tahoma"/>
                </a:rPr>
                <a:t>Жас қал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400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Топпен жұмыс</a:t>
            </a: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ІІІ Толғаныс :« Эйллер Венна» шеңберлерін құру.</a:t>
            </a:r>
            <a:r>
              <a:rPr b="0" lang="kk-K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3141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Халқы аз. Табиғаты жұмсақ, өзені аз, көлдері жоқ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84640"/>
            <a:ext cx="17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 - т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ст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80360" y="3213000"/>
            <a:ext cx="17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 - т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кс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Tahoma"/>
              </a:rPr>
              <a:t>Қортындылау . Тест сұрақта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1. Қазақстан астанасы қандай қал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Ақм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Қызыло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Аст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2.  Қазақстанда неше облыс бар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3.  Қазақстанның мемлекеттік тілі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 орыс тіл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 қазақ тіл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 ағылшын тіл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Қортындылау . Тест сұрақта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4.  Қазақстанның рәмізд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 тіл, аст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 халық, қ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 әнұран, ту, елтаңб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5.  Қазақстанның президенті қашан сайланды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1994 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1989 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1991 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6.  Қазақстанның рәміздерінде қандай түстер бар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 ақ, қызы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 жасыл, кө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 сары, кө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Қортындылау . Тест сұрақта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7. Қазақстанның алғашқы ғарышк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Т. Мұсаба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 Т.Әубәкі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 М. Сарсен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8. Ата заң күн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25 тамы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21 қыркүй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 30 тамы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9 . Қазақ ғарышкерінің ғарышқа ұшқан жы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1989 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1991 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 2000 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Қортындылау . Тест сұрақта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10. Қ Р –ның тәуелсіздік күн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) 25 қаз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ә) 30 тамы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) 16 желтоқс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272960" y="71280"/>
            <a:ext cx="6670440" cy="6591600"/>
            <a:chOff x="1272960" y="71280"/>
            <a:chExt cx="6670440" cy="6591600"/>
          </a:xfrm>
        </p:grpSpPr>
        <p:sp>
          <p:nvSpPr>
            <p:cNvPr id="91" name="_s3093"/>
            <p:cNvSpPr/>
            <p:nvPr/>
          </p:nvSpPr>
          <p:spPr>
            <a:xfrm flipH="1" flipV="1">
              <a:off x="3415320" y="2023920"/>
              <a:ext cx="705960" cy="837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092"/>
            <p:cNvSpPr/>
            <p:nvPr/>
          </p:nvSpPr>
          <p:spPr>
            <a:xfrm>
              <a:off x="2166120" y="682200"/>
              <a:ext cx="1522080" cy="152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ақсаттар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3091"/>
            <p:cNvSpPr/>
            <p:nvPr/>
          </p:nvSpPr>
          <p:spPr>
            <a:xfrm flipH="1" flipV="1">
              <a:off x="2781360" y="3122640"/>
              <a:ext cx="1078920" cy="187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090"/>
            <p:cNvSpPr/>
            <p:nvPr/>
          </p:nvSpPr>
          <p:spPr>
            <a:xfrm>
              <a:off x="1272960" y="2231280"/>
              <a:ext cx="1522080" cy="1522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Arial"/>
                </a:rPr>
                <a:t>Мұғалімнің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Arial"/>
                </a:rPr>
                <a:t>Жұмыс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089"/>
            <p:cNvSpPr/>
            <p:nvPr/>
          </p:nvSpPr>
          <p:spPr>
            <a:xfrm flipH="1">
              <a:off x="3001680" y="3823200"/>
              <a:ext cx="947520" cy="54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088"/>
            <p:cNvSpPr/>
            <p:nvPr/>
          </p:nvSpPr>
          <p:spPr>
            <a:xfrm>
              <a:off x="1584360" y="3991680"/>
              <a:ext cx="1521720" cy="152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абақты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Жоспа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087"/>
            <p:cNvSpPr/>
            <p:nvPr/>
          </p:nvSpPr>
          <p:spPr>
            <a:xfrm flipH="1">
              <a:off x="3974760" y="4158000"/>
              <a:ext cx="373680" cy="102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3086"/>
            <p:cNvSpPr/>
            <p:nvPr/>
          </p:nvSpPr>
          <p:spPr>
            <a:xfrm>
              <a:off x="2953440" y="5140440"/>
              <a:ext cx="1522080" cy="1522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абақтың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Arial"/>
                </a:rPr>
                <a:t>барыс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3100"/>
            <p:cNvSpPr/>
            <p:nvPr/>
          </p:nvSpPr>
          <p:spPr>
            <a:xfrm>
              <a:off x="4868280" y="4158000"/>
              <a:ext cx="374760" cy="102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099"/>
            <p:cNvSpPr/>
            <p:nvPr/>
          </p:nvSpPr>
          <p:spPr>
            <a:xfrm>
              <a:off x="4742640" y="5140440"/>
              <a:ext cx="1522080" cy="1522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Tahoma"/>
                </a:rPr>
                <a:t>Сабақтың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Tahoma"/>
                </a:rPr>
                <a:t>Ережелері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085"/>
            <p:cNvSpPr/>
            <p:nvPr/>
          </p:nvSpPr>
          <p:spPr>
            <a:xfrm>
              <a:off x="5266800" y="3823200"/>
              <a:ext cx="947520" cy="54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084"/>
            <p:cNvSpPr/>
            <p:nvPr/>
          </p:nvSpPr>
          <p:spPr>
            <a:xfrm>
              <a:off x="6111720" y="3989880"/>
              <a:ext cx="1522080" cy="152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Arial"/>
                </a:rPr>
                <a:t>Оқушысың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Arial"/>
                </a:rPr>
                <a:t>Жұмыс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102"/>
            <p:cNvSpPr/>
            <p:nvPr/>
          </p:nvSpPr>
          <p:spPr>
            <a:xfrm flipV="1">
              <a:off x="5355720" y="3121560"/>
              <a:ext cx="1077120" cy="18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101"/>
            <p:cNvSpPr/>
            <p:nvPr/>
          </p:nvSpPr>
          <p:spPr>
            <a:xfrm>
              <a:off x="6421680" y="2229840"/>
              <a:ext cx="1521720" cy="152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Tahoma"/>
                </a:rPr>
                <a:t>Пәнаралық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Tahoma"/>
                </a:rPr>
                <a:t>Байланы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7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083"/>
            <p:cNvSpPr/>
            <p:nvPr/>
          </p:nvSpPr>
          <p:spPr>
            <a:xfrm flipV="1">
              <a:off x="5094720" y="2023920"/>
              <a:ext cx="703800" cy="837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082"/>
            <p:cNvSpPr/>
            <p:nvPr/>
          </p:nvSpPr>
          <p:spPr>
            <a:xfrm>
              <a:off x="5527800" y="682200"/>
              <a:ext cx="1522080" cy="152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Әдістері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081"/>
            <p:cNvSpPr/>
            <p:nvPr/>
          </p:nvSpPr>
          <p:spPr>
            <a:xfrm flipV="1">
              <a:off x="4606920" y="1591200"/>
              <a:ext cx="0" cy="1094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080">
              <a:hlinkClick r:id="rId1" action="ppaction://hlinksldjump"/>
            </p:cNvPr>
            <p:cNvSpPr/>
            <p:nvPr/>
          </p:nvSpPr>
          <p:spPr>
            <a:xfrm>
              <a:off x="3846960" y="71280"/>
              <a:ext cx="1522080" cy="152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ормала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079"/>
            <p:cNvSpPr/>
            <p:nvPr/>
          </p:nvSpPr>
          <p:spPr>
            <a:xfrm>
              <a:off x="3846960" y="2685960"/>
              <a:ext cx="1522080" cy="1522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Модуль №8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0840" y="2177640"/>
              <a:ext cx="2570040" cy="257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II –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одул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ffffff"/>
                  </a:solidFill>
                  <a:latin typeface="Arial"/>
                </a:rPr>
                <a:t>Қазақстан Республикасы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ffffff"/>
                  </a:solidFill>
                  <a:latin typeface="Arial"/>
                </a:rPr>
                <a:t>Тәуелсіз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ffffff"/>
                  </a:solidFill>
                  <a:latin typeface="Arial"/>
                </a:rPr>
                <a:t>5 – сабақ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400" spc="-1" strike="noStrike">
                  <a:solidFill>
                    <a:srgbClr val="ffffff"/>
                  </a:solidFill>
                  <a:latin typeface="Arial"/>
                </a:rPr>
                <a:t>Менің елім – менің жері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>
            <a:hlinkClick r:id="" action="ppaction://hlinkshowjump?jump=endshow"/>
            <a:hlinkClick r:id="rId2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ығ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бақтың </a:t>
            </a: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бары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Бағала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Үй тапсырмасы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« Қазақстанның  болашағы »  атты шығарма жа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Етістіктің жасалу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 сабақ  Менің Қазақста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 сабақ  Қазақстан Республикасының рәміздер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 сабақ  Қазақстан жетістіктер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 сабақ  Тәуелсіз Қазақст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5 сабақ  Менің елім – менің жері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6 сабақ  Нәтиже сабақ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669080" y="5734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Пәнаралық</a:t>
            </a:r>
            <a:br>
              <a:rPr sz="4000"/>
            </a:b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байланыс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Географ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деби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азақстан тарих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н кү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669080" y="5734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Сабақтың ережелері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ығарма жаза бі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әтін тыңда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оппен жұмы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669080" y="5734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ормала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Сабақтың типі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: жаңа білімді меңгерту сабағ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Оқытудың формалары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жеке, топпен, жұппен жұмы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Техникалық құрал-жабдықтар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компьютер, теледидар, электронды бейнематериа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Пәнаралық байланыс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Қазақстан тарихы, география, ән-кү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669080" y="5734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Әдістері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Tahoma"/>
              </a:rPr>
              <a:t>Сабақтың әдістері</a:t>
            </a: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: ынталандыру әдісі, сұрақ-жауап, әңгімелеу, мәтінмен, көрнекілікпен жұмыс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7236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Сабақтағы мұғалімнің жұмы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азақстан туралы эпиграфтің , мәтіннің мазмұнымен танысты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Үлестірмелі карточкалар дайында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ақтаға сабақтың жүйесін жаса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оппен жұмыс істеуді бағытта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әтінді түсініп, өз ойларын айтып беруге бағыттап оты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Сабақтың мақсатына жетуге тыры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172360" y="602136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Сабақтағы оқушылардың жұмы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Эссе жаз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Мұғалімді ұқыпты тыңда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Өткенді қайтала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Оқулықпен жұмыс істей бі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Топпен жұмыс істей бі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Өз көзқарастарын айта бі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Тұжырым жасай бі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810108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4:10:22Z</dcterms:created>
  <dc:creator>User</dc:creator>
  <dc:description/>
  <dc:language>en-US</dc:language>
  <cp:lastModifiedBy>User</cp:lastModifiedBy>
  <dcterms:modified xsi:type="dcterms:W3CDTF">2008-02-20T12:03:01Z</dcterms:modified>
  <cp:revision>11</cp:revision>
  <dc:subject/>
  <dc:title>Слайд 1</dc:title>
</cp:coreProperties>
</file>