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B33A-9B9F-4737-B0CD-8A5D33D9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EBC7-A149-48C9-8413-99CC201C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15D9-BE84-473C-AAC9-3E13851D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3B26-B427-4E5F-821E-BE9756E1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C7C9-01B3-49C1-9381-4D456001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102E-F384-4F0E-AD18-6B4D8D92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D687-C784-4FB5-8F7A-95F5B401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73F1-E1AB-4CC5-911D-0B0077BD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C7AF-1A46-4CD8-A10C-BBE9E217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A410-B75B-47B6-92E2-480B49E7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FA5D-1380-41A4-AE4F-22B75C14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E62C-5D0A-4D01-9579-A4875EAB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E97D-904C-4740-949A-26E0AD9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280-D929-49A3-9562-3C27B45F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85D-BBBE-4B57-89F6-628978F9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7E8F-A188-4693-B09A-2BDD11C3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E599-B78F-4B73-824B-567C665A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C1AF-01B7-47E4-ABDF-EAA0C9E4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F029-544E-47B3-9590-4CDD5AB4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2922-FCCD-49BE-A791-2CEE6669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741D-8B56-4ADC-87E7-0ACE795E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5B71-DE15-402A-882B-1F953ED2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2330-66F2-4A23-B8BE-91F3293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D8C8-792D-4C92-8856-A0317E96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049-703F-448A-B27E-3456422E0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lephant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72dc"/>
                </a:gs>
                <a:gs pos="100000">
                  <a:srgbClr val="f8d2f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535bf3"/>
                </a:gs>
                <a:gs pos="100000">
                  <a:srgbClr val="f8d2f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7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7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b60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7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535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b60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b60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35bf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b60aaa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535bf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b60aa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535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dfc4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5ffae"/>
                </a:gs>
                <a:gs pos="100000">
                  <a:srgbClr val="dfc4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5f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dfc4b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5f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5f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5f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5ff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5ffa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5ff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1ABD-A230-4619-814F-32AC507F0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7164360" y="3933720"/>
            <a:ext cx="1509840" cy="2521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0" y="1557360"/>
            <a:ext cx="896472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Стандарт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yper Text Markup Languag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(обобщающий урок)</a:t>
            </a:r>
            <a:endParaRPr b="0" lang="en-US" sz="33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33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642960" y="571680"/>
            <a:ext cx="8072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82dc6"/>
                </a:solidFill>
                <a:latin typeface="Candara"/>
              </a:rPr>
              <a:t>Верно ли: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5280" y="1413000"/>
          <a:ext cx="8569080" cy="4989240"/>
        </p:xfrm>
        <a:graphic>
          <a:graphicData uri="http://schemas.openxmlformats.org/drawingml/2006/table">
            <a:tbl>
              <a:tblPr/>
              <a:tblGrid>
                <a:gridCol w="535680"/>
                <a:gridCol w="8033400"/>
              </a:tblGrid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1872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 следования атрибутов произволе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1872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</a:tr>
              <a:tr h="11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1872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крывающем теге не нужно повторно описывать атрибу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1872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–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ги нельзя  помещать другие те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траница имеет расширение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рибут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ействует только в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язык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злично, в каком регистре записываются те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f8d2fe"/>
                      </a:solidFill>
                    </a:lnL>
                    <a:lnR w="5760">
                      <a:solidFill>
                        <a:srgbClr val="f8d2fe"/>
                      </a:solidFill>
                    </a:lnR>
                    <a:lnT w="5760">
                      <a:solidFill>
                        <a:srgbClr val="f8d2fe"/>
                      </a:solidFill>
                    </a:lnT>
                    <a:lnB w="5760">
                      <a:solidFill>
                        <a:srgbClr val="f8d2fe"/>
                      </a:solidFill>
                    </a:lnB>
                    <a:solidFill>
                      <a:srgbClr val="6dd9ff">
                        <a:alpha val="15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539640" y="836640"/>
            <a:ext cx="673272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Стандарт </a:t>
            </a:r>
            <a:endParaRPr b="0" lang="en-US" sz="3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yper Text Markup Languag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300720" y="2421000"/>
            <a:ext cx="23860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476280"/>
            <a:ext cx="8713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51ca3"/>
                </a:solidFill>
                <a:latin typeface="Arial"/>
              </a:rPr>
              <a:t>Записать общую схему оформления </a:t>
            </a:r>
            <a:r>
              <a:rPr b="1" lang="en-US" sz="3500" spc="-1" strike="noStrike">
                <a:solidFill>
                  <a:srgbClr val="151ca3"/>
                </a:solidFill>
                <a:latin typeface="Arial"/>
              </a:rPr>
              <a:t>HTML</a:t>
            </a:r>
            <a:r>
              <a:rPr b="1" lang="ru-RU" sz="3500" spc="-1" strike="noStrike">
                <a:solidFill>
                  <a:srgbClr val="151ca3"/>
                </a:solidFill>
                <a:latin typeface="Arial"/>
              </a:rPr>
              <a:t> – документа: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2916360" y="2060640"/>
            <a:ext cx="6624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Elephant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html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head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title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Название страницы&lt;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/title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lt;/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head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body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Содержимое документа</a:t>
            </a:r>
            <a:endParaRPr b="0" lang="en-US" sz="2600" spc="-1" strike="noStrike">
              <a:solidFill>
                <a:srgbClr val="000000"/>
              </a:solidFill>
              <a:latin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lt;/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body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lt;/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html</a:t>
            </a:r>
            <a:r>
              <a:rPr b="0" lang="ru-RU" sz="2600" spc="-1" strike="noStrike">
                <a:solidFill>
                  <a:srgbClr val="000000"/>
                </a:solidFill>
                <a:latin typeface="Elephant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404640"/>
            <a:ext cx="6553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51ca3"/>
                </a:solidFill>
                <a:latin typeface="Arial"/>
              </a:rPr>
              <a:t>Общая схема оформления </a:t>
            </a:r>
            <a:r>
              <a:rPr b="1" lang="en-US" sz="3500" spc="-1" strike="noStrike">
                <a:solidFill>
                  <a:srgbClr val="151ca3"/>
                </a:solidFill>
                <a:latin typeface="Arial"/>
              </a:rPr>
              <a:t>HTML</a:t>
            </a:r>
            <a:r>
              <a:rPr b="1" lang="ru-RU" sz="3500" spc="-1" strike="noStrike">
                <a:solidFill>
                  <a:srgbClr val="151ca3"/>
                </a:solidFill>
                <a:latin typeface="Arial"/>
              </a:rPr>
              <a:t> – документа: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23860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0920" y="620640"/>
            <a:ext cx="871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51ca3"/>
                </a:solidFill>
                <a:latin typeface="Arial"/>
              </a:rPr>
              <a:t>Записать тег в правильной форме: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292720" y="134136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ейнерные теги: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71640" y="134136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иночные теги: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5" name="Document"/>
          <p:cNvSpPr/>
          <p:nvPr/>
        </p:nvSpPr>
        <p:spPr>
          <a:xfrm>
            <a:off x="539640" y="2205000"/>
            <a:ext cx="3240360" cy="4390920"/>
          </a:xfrm>
          <a:prstGeom prst="pie">
            <a:avLst/>
          </a:prstGeom>
          <a:solidFill>
            <a:srgbClr val="ffcc99">
              <a:alpha val="96000"/>
            </a:srgbClr>
          </a:solidFill>
          <a:ln w="9360">
            <a:solidFill>
              <a:srgbClr val="ff99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6" name="Document"/>
          <p:cNvSpPr/>
          <p:nvPr/>
        </p:nvSpPr>
        <p:spPr>
          <a:xfrm>
            <a:off x="4500720" y="2133720"/>
            <a:ext cx="4392360" cy="4535280"/>
          </a:xfrm>
          <a:prstGeom prst="pie">
            <a:avLst/>
          </a:prstGeom>
          <a:solidFill>
            <a:srgbClr val="ffcc99">
              <a:alpha val="96000"/>
            </a:srgbClr>
          </a:solidFill>
          <a:ln w="9360">
            <a:solidFill>
              <a:srgbClr val="ff99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7"/>
          <p:cNvSpPr/>
          <p:nvPr/>
        </p:nvSpPr>
        <p:spPr>
          <a:xfrm>
            <a:off x="1692360" y="404640"/>
            <a:ext cx="5761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51ca3"/>
                </a:solidFill>
                <a:latin typeface="Arial"/>
              </a:rPr>
              <a:t>Применение элементов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8" name="AutoShape 47"/>
          <p:cNvSpPr/>
          <p:nvPr/>
        </p:nvSpPr>
        <p:spPr>
          <a:xfrm>
            <a:off x="179280" y="836640"/>
            <a:ext cx="2987640" cy="5832360"/>
          </a:xfrm>
          <a:custGeom>
            <a:avLst/>
            <a:gdLst>
              <a:gd name="textAreaLeft" fmla="*/ 145800 w 2987640"/>
              <a:gd name="textAreaRight" fmla="*/ 2841840 w 2987640"/>
              <a:gd name="textAreaTop" fmla="*/ 145800 h 5832360"/>
              <a:gd name="textAreaBottom" fmla="*/ 5686560 h 5832360"/>
            </a:gdLst>
            <a:ahLst/>
            <a:rect l="textAreaLeft" t="textAreaTop" r="textAreaRight" b="textAreaBottom"/>
            <a:pathLst>
              <a:path w="21600" h="42164">
                <a:moveTo>
                  <a:pt x="3600" y="0"/>
                </a:moveTo>
                <a:arcTo wR="3600" hR="3600" stAng="16200000" swAng="-5400000"/>
                <a:lnTo>
                  <a:pt x="0" y="38564"/>
                </a:lnTo>
                <a:arcTo wR="3600" hR="3600" stAng="10800000" swAng="-5400000"/>
                <a:lnTo>
                  <a:pt x="18000" y="421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dd9ff">
                  <a:alpha val="39215"/>
                </a:srgbClr>
              </a:gs>
              <a:gs pos="100000">
                <a:srgbClr val="ccffff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87640" y="1052640"/>
          <a:ext cx="5929200" cy="5481360"/>
        </p:xfrm>
        <a:graphic>
          <a:graphicData uri="http://schemas.openxmlformats.org/drawingml/2006/table">
            <a:tbl>
              <a:tblPr/>
              <a:tblGrid>
                <a:gridCol w="2214720"/>
                <a:gridCol w="371448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>
                      <a:noFill/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атрибут определяющий изображение для "заливки" фон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трибут, определяющий стиль элемента спис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трибут, отвечающий за толщину горизонтальной лин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трибут, определяющий описание картин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атрибут, работающий на выбор типа шриф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трибут, определяющий начало списка с указанного номе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атрибут, определяющий каждый элемент     спис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атрибут, выполняющий выравнивание по обоим краям докумен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атрибут, определяющий цвет фона докумен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 w="5760">
                      <a:solidFill>
                        <a:srgbClr val="535bf3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35bf3"/>
                      </a:solidFill>
                    </a:lnR>
                    <a:lnT w="5760">
                      <a:solidFill>
                        <a:srgbClr val="535bf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 атрибут, отвечающий за скорость движения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гущей строк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Elephant"/>
                      </a:endParaRPr>
                    </a:p>
                  </a:txBody>
                  <a:tcPr anchor="t" marL="90000" marR="90000">
                    <a:lnL w="5760">
                      <a:solidFill>
                        <a:srgbClr val="535bf3"/>
                      </a:solidFill>
                    </a:lnL>
                    <a:lnR>
                      <a:noFill/>
                    </a:lnR>
                    <a:lnT w="5760">
                      <a:solidFill>
                        <a:srgbClr val="535bf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5"/>
          <p:cNvSpPr/>
          <p:nvPr/>
        </p:nvSpPr>
        <p:spPr>
          <a:xfrm>
            <a:off x="3059280" y="1281240"/>
            <a:ext cx="18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843280" y="6165720"/>
            <a:ext cx="214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CROLLAMOUNT 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130560" y="5672160"/>
            <a:ext cx="1569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GCOLOR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90920" y="401652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635280" y="4521240"/>
            <a:ext cx="84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771640" y="5097600"/>
            <a:ext cx="22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LIGN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“JUSTIFY”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74920" y="3440160"/>
            <a:ext cx="1279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ACE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564000" y="2360520"/>
            <a:ext cx="99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348000" y="2936880"/>
            <a:ext cx="1135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LT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9" name=""/>
          <p:cNvSpPr/>
          <p:nvPr/>
        </p:nvSpPr>
        <p:spPr>
          <a:xfrm>
            <a:off x="3638160" y="1751040"/>
            <a:ext cx="68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5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71640" y="260280"/>
            <a:ext cx="763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51ca3"/>
                </a:solidFill>
                <a:latin typeface="Arial"/>
              </a:rPr>
              <a:t>Предугадайте результат: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765000"/>
            <a:ext cx="547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32efe"/>
                </a:solidFill>
                <a:latin typeface="Elephant"/>
              </a:rPr>
              <a:t>Фрагмент</a:t>
            </a:r>
            <a:r>
              <a:rPr b="1" i="1" lang="ru-RU" sz="2900" spc="-1" strike="noStrike">
                <a:solidFill>
                  <a:srgbClr val="732efe"/>
                </a:solidFill>
                <a:latin typeface="Elephant"/>
              </a:rPr>
              <a:t> </a:t>
            </a:r>
            <a:r>
              <a:rPr b="1" i="1" lang="en-US" sz="2900" spc="-1" strike="noStrike">
                <a:solidFill>
                  <a:srgbClr val="732efe"/>
                </a:solidFill>
                <a:latin typeface="Elephant"/>
              </a:rPr>
              <a:t>HTML</a:t>
            </a:r>
            <a:r>
              <a:rPr b="1" lang="ru-RU" sz="2900" spc="-1" strike="noStrike">
                <a:solidFill>
                  <a:srgbClr val="732efe"/>
                </a:solidFill>
                <a:latin typeface="Elephant"/>
              </a:rPr>
              <a:t> – кода:</a:t>
            </a:r>
            <a:endParaRPr b="0" lang="en-US" sz="29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250920" y="1268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&lt;BODY bgcolor=“orange”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&lt;marquee bgcolor=roze width="1000" height="30" loop="2"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&lt;font size=“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“ color=“blue"&gt;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Добро пожаловать!!!&lt;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/font&gt;&lt;/marquee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50028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2efe"/>
                </a:solidFill>
                <a:latin typeface="Elephant"/>
              </a:rPr>
              <a:t>В браузере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2efe"/>
                </a:solidFill>
                <a:latin typeface="Elephant"/>
              </a:rPr>
              <a:t> </a:t>
            </a:r>
            <a:r>
              <a:rPr b="1" lang="en-US" sz="2400" spc="-1" strike="noStrike">
                <a:solidFill>
                  <a:srgbClr val="732efe"/>
                </a:solidFill>
                <a:latin typeface="Elephant"/>
              </a:rPr>
              <a:t>Internet Explorer</a:t>
            </a:r>
            <a:r>
              <a:rPr b="1" lang="ru-RU" sz="2400" spc="-1" strike="noStrike">
                <a:solidFill>
                  <a:srgbClr val="732efe"/>
                </a:solidFill>
                <a:latin typeface="Elephan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410364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714240" y="285840"/>
            <a:ext cx="763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51ca3"/>
                </a:solidFill>
                <a:latin typeface="Arial"/>
              </a:rPr>
              <a:t>Предугадайте результат: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981000"/>
            <a:ext cx="5256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32efe"/>
                </a:solidFill>
                <a:latin typeface="Elephant"/>
              </a:rPr>
              <a:t>Фрагмент</a:t>
            </a:r>
            <a:r>
              <a:rPr b="1" i="1" lang="ru-RU" sz="2900" spc="-1" strike="noStrike">
                <a:solidFill>
                  <a:srgbClr val="732efe"/>
                </a:solidFill>
                <a:latin typeface="Elephant"/>
              </a:rPr>
              <a:t> </a:t>
            </a:r>
            <a:r>
              <a:rPr b="1" i="1" lang="en-US" sz="2900" spc="-1" strike="noStrike">
                <a:solidFill>
                  <a:srgbClr val="732efe"/>
                </a:solidFill>
                <a:latin typeface="Elephant"/>
              </a:rPr>
              <a:t>HTML</a:t>
            </a:r>
            <a:r>
              <a:rPr b="1" lang="ru-RU" sz="2900" spc="-1" strike="noStrike">
                <a:solidFill>
                  <a:srgbClr val="732efe"/>
                </a:solidFill>
                <a:latin typeface="Elephant"/>
              </a:rPr>
              <a:t> – кода:</a:t>
            </a:r>
            <a:endParaRPr b="0" lang="en-US" sz="29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93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BODY  text=white bgcolor="yellow" BACKGROUND=“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lower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.jpg"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BR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DIV align=center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FONT  size=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&gt; ВЕСНА ИДЁТ! ВЕСНЕ ДОРОГУ! &lt;/FONT&gt;&lt;/DIV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/BODY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386064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2efe"/>
                </a:solidFill>
                <a:latin typeface="Elephant"/>
              </a:rPr>
              <a:t>В браузере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2efe"/>
                </a:solidFill>
                <a:latin typeface="Elephant"/>
              </a:rPr>
              <a:t> </a:t>
            </a:r>
            <a:r>
              <a:rPr b="1" lang="en-US" sz="2400" spc="-1" strike="noStrike">
                <a:solidFill>
                  <a:srgbClr val="732efe"/>
                </a:solidFill>
                <a:latin typeface="Elephant"/>
              </a:rPr>
              <a:t>Internet Explorer</a:t>
            </a:r>
            <a:r>
              <a:rPr b="1" lang="ru-RU" sz="2400" spc="-1" strike="noStrike">
                <a:solidFill>
                  <a:srgbClr val="732efe"/>
                </a:solidFill>
                <a:latin typeface="Elephan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619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714240" y="285840"/>
            <a:ext cx="763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51ca3"/>
                </a:solidFill>
                <a:latin typeface="Elephant"/>
              </a:rPr>
              <a:t>Предугадайте результат: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907920"/>
            <a:ext cx="5256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32efe"/>
                </a:solidFill>
                <a:latin typeface="Elephant"/>
              </a:rPr>
              <a:t>Фрагмент</a:t>
            </a:r>
            <a:r>
              <a:rPr b="1" i="1" lang="ru-RU" sz="2900" spc="-1" strike="noStrike">
                <a:solidFill>
                  <a:srgbClr val="732efe"/>
                </a:solidFill>
                <a:latin typeface="Elephant"/>
              </a:rPr>
              <a:t> </a:t>
            </a:r>
            <a:r>
              <a:rPr b="1" i="1" lang="en-US" sz="2900" spc="-1" strike="noStrike">
                <a:solidFill>
                  <a:srgbClr val="732efe"/>
                </a:solidFill>
                <a:latin typeface="Elephant"/>
              </a:rPr>
              <a:t>HTML</a:t>
            </a:r>
            <a:r>
              <a:rPr b="1" lang="ru-RU" sz="2900" spc="-1" strike="noStrike">
                <a:solidFill>
                  <a:srgbClr val="732efe"/>
                </a:solidFill>
                <a:latin typeface="Elephant"/>
              </a:rPr>
              <a:t> – кода:</a:t>
            </a:r>
            <a:endParaRPr b="0" lang="en-US" sz="29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268280"/>
            <a:ext cx="806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BODY text="yellow"</a:t>
            </a:r>
            <a:r>
              <a:rPr b="0" lang="ru-RU" sz="18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gcolor=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ms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FONT SIZE="+2"&gt;На страничке сайта школы №3 г. Аксая Вы можете узнать:&lt;/FONT&gt;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UL TYPE=square&gt; 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LI&gt;НОВОСТИ ШКОЛЫ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LI&gt;ИСТОРИЯ ШКОЛЫ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LI&gt;АДМИНИСТРАЦИЯ ШКОЛЫ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LI&gt;ПЕДАГОГИЧЕСКИЙ КОЛЛЕКТИВ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LI&gt;ГОРДОСТЬ ШКОЛЫ&lt;/UL&gt;&lt;/BODY&gt;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221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2efe"/>
                </a:solidFill>
                <a:latin typeface="Elephant"/>
              </a:rPr>
              <a:t>В браузере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2efe"/>
                </a:solidFill>
                <a:latin typeface="Elephant"/>
              </a:rPr>
              <a:t> </a:t>
            </a:r>
            <a:r>
              <a:rPr b="1" lang="en-US" sz="2400" spc="-1" strike="noStrike">
                <a:solidFill>
                  <a:srgbClr val="732efe"/>
                </a:solidFill>
                <a:latin typeface="Elephant"/>
              </a:rPr>
              <a:t>Internet Explorer</a:t>
            </a:r>
            <a:r>
              <a:rPr b="1" lang="ru-RU" sz="2400" spc="-1" strike="noStrike">
                <a:solidFill>
                  <a:srgbClr val="732efe"/>
                </a:solidFill>
                <a:latin typeface="Elephan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33591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1125360"/>
            <a:ext cx="871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body text="yellow" bgcolor=“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blue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"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div align="center"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H1&gt;Наша первая страница.&lt;/H1&gt;&lt;Hr  width="100%" color=“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red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" size="4"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&lt;img src="sun.jpg"  width="500" height</a:t>
            </a:r>
            <a:r>
              <a:rPr b="0" lang="ru-RU" sz="18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0"</a:t>
            </a:r>
            <a:r>
              <a:rPr b="0" lang="ru-RU" sz="18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HSPACE=10 VSPACE=5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alt="МАЛЕНЬКОЕ СОЛНЫШКО"&gt;&lt;/div&gt;&lt;/body&gt;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14240" y="285840"/>
            <a:ext cx="763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51ca3"/>
                </a:solidFill>
                <a:latin typeface="Elephant"/>
              </a:rPr>
              <a:t>Предугадайте результат:</a:t>
            </a:r>
            <a:endParaRPr b="0" lang="en-US" sz="35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836640"/>
            <a:ext cx="511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32efe"/>
                </a:solidFill>
                <a:latin typeface="Elephant"/>
              </a:rPr>
              <a:t>Фрагмент</a:t>
            </a:r>
            <a:r>
              <a:rPr b="1" i="1" lang="ru-RU" sz="2900" spc="-1" strike="noStrike">
                <a:solidFill>
                  <a:srgbClr val="732efe"/>
                </a:solidFill>
                <a:latin typeface="Elephant"/>
              </a:rPr>
              <a:t> </a:t>
            </a:r>
            <a:r>
              <a:rPr b="1" i="1" lang="en-US" sz="2900" spc="-1" strike="noStrike">
                <a:solidFill>
                  <a:srgbClr val="732efe"/>
                </a:solidFill>
                <a:latin typeface="Elephant"/>
              </a:rPr>
              <a:t>HTML</a:t>
            </a:r>
            <a:r>
              <a:rPr b="1" lang="ru-RU" sz="2900" spc="-1" strike="noStrike">
                <a:solidFill>
                  <a:srgbClr val="732efe"/>
                </a:solidFill>
                <a:latin typeface="Elephant"/>
              </a:rPr>
              <a:t> – кода:</a:t>
            </a:r>
            <a:endParaRPr b="0" lang="en-US" sz="29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86064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2efe"/>
                </a:solidFill>
                <a:latin typeface="Elephant"/>
              </a:rPr>
              <a:t>В браузере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2efe"/>
                </a:solidFill>
                <a:latin typeface="Elephant"/>
              </a:rPr>
              <a:t> </a:t>
            </a:r>
            <a:r>
              <a:rPr b="1" lang="en-US" sz="2400" spc="-1" strike="noStrike">
                <a:solidFill>
                  <a:srgbClr val="732efe"/>
                </a:solidFill>
                <a:latin typeface="Elephant"/>
              </a:rPr>
              <a:t>Internet Explorer</a:t>
            </a:r>
            <a:r>
              <a:rPr b="1" lang="ru-RU" sz="2400" spc="-1" strike="noStrike">
                <a:solidFill>
                  <a:srgbClr val="732efe"/>
                </a:solidFill>
                <a:latin typeface="Elephan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40320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5:19:38Z</dcterms:created>
  <dc:creator>администратор</dc:creator>
  <dc:description/>
  <dc:language>en-US</dc:language>
  <cp:lastModifiedBy>REM</cp:lastModifiedBy>
  <dcterms:modified xsi:type="dcterms:W3CDTF">2009-02-23T20:22:55Z</dcterms:modified>
  <cp:revision>67</cp:revision>
  <dc:subject/>
  <dc:title>Слайд 1</dc:title>
</cp:coreProperties>
</file>