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3E9E-8597-4218-8AF9-94E041C0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7A52-929A-408C-AE59-E75C6015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9DB9-3F98-43FE-BA7A-CAAE89E8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59E8-1395-458C-B9EF-4A72C211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D425-3EB8-486A-8D8D-9F2823E9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444E-D4F4-4B2D-91E3-59B63EF1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2ECD-66E9-4D4A-9AFC-5A5EAF58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C46F-2A25-4E44-A5AF-605DF823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B168-8CA0-4E52-BC69-CA95D538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16D5-DF47-4237-98A3-12DEF2C3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4CF7-A8D5-4B0F-AB33-ADF5A734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5A0B-FD00-416C-81DF-6F530A33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1AD5-D977-40B7-B505-B1D04BBB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30CE-8D7E-49FC-B929-26D37CB2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D305-CAC9-480A-8C27-622509A9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5D99-F0EF-4621-9C19-12103DC8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E43C-B368-464C-B893-2FAFB50B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5683-1342-4DFF-BC8F-B36281CD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3E47-66DB-48EC-8152-844503AE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A987-1089-4E18-B355-6E5EF5B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1ACA-126B-45E7-8D63-C013F00B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419C-7906-4208-936B-CE79980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2127-6B95-40AE-8519-ED2DCEB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5A46-267E-4296-BA06-31CCBE8B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0761-A619-4969-B4F6-CC90ACCB2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bdde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bdde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bdde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0EDC-4C12-416A-9DDE-16463389B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Тригонометрические функции и основные тригонометрические тождества.</a:t>
            </a:r>
            <a:br>
              <a:rPr sz="3500"/>
            </a:br>
            <a:br>
              <a:rPr sz="1200"/>
            </a:br>
            <a:br>
              <a:rPr sz="12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бобщающий урок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0920" y="549360"/>
            <a:ext cx="6481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Arial"/>
              </a:rPr>
              <a:t>Установить соответствие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1197000"/>
            <a:ext cx="216000" cy="5472000"/>
          </a:xfrm>
          <a:custGeom>
            <a:avLst/>
            <a:gdLst/>
            <a:ahLst/>
            <a:rect l="l" t="t" r="r" b="b"/>
            <a:pathLst>
              <a:path w="331" h="3583">
                <a:moveTo>
                  <a:pt x="52" y="0"/>
                </a:moveTo>
                <a:cubicBezTo>
                  <a:pt x="165" y="64"/>
                  <a:pt x="279" y="128"/>
                  <a:pt x="279" y="181"/>
                </a:cubicBezTo>
                <a:cubicBezTo>
                  <a:pt x="279" y="234"/>
                  <a:pt x="52" y="272"/>
                  <a:pt x="52" y="317"/>
                </a:cubicBezTo>
                <a:cubicBezTo>
                  <a:pt x="52" y="362"/>
                  <a:pt x="279" y="400"/>
                  <a:pt x="279" y="453"/>
                </a:cubicBezTo>
                <a:cubicBezTo>
                  <a:pt x="279" y="506"/>
                  <a:pt x="52" y="575"/>
                  <a:pt x="52" y="635"/>
                </a:cubicBezTo>
                <a:cubicBezTo>
                  <a:pt x="52" y="695"/>
                  <a:pt x="279" y="763"/>
                  <a:pt x="279" y="816"/>
                </a:cubicBezTo>
                <a:cubicBezTo>
                  <a:pt x="279" y="869"/>
                  <a:pt x="52" y="892"/>
                  <a:pt x="52" y="952"/>
                </a:cubicBezTo>
                <a:cubicBezTo>
                  <a:pt x="52" y="1012"/>
                  <a:pt x="279" y="1119"/>
                  <a:pt x="279" y="1179"/>
                </a:cubicBezTo>
                <a:cubicBezTo>
                  <a:pt x="279" y="1239"/>
                  <a:pt x="52" y="1262"/>
                  <a:pt x="52" y="1315"/>
                </a:cubicBezTo>
                <a:cubicBezTo>
                  <a:pt x="52" y="1368"/>
                  <a:pt x="279" y="1436"/>
                  <a:pt x="279" y="1496"/>
                </a:cubicBezTo>
                <a:cubicBezTo>
                  <a:pt x="279" y="1556"/>
                  <a:pt x="45" y="1617"/>
                  <a:pt x="52" y="1678"/>
                </a:cubicBezTo>
                <a:cubicBezTo>
                  <a:pt x="59" y="1739"/>
                  <a:pt x="331" y="1806"/>
                  <a:pt x="324" y="1859"/>
                </a:cubicBezTo>
                <a:cubicBezTo>
                  <a:pt x="317" y="1912"/>
                  <a:pt x="14" y="1965"/>
                  <a:pt x="7" y="1995"/>
                </a:cubicBezTo>
                <a:cubicBezTo>
                  <a:pt x="0" y="2025"/>
                  <a:pt x="272" y="2003"/>
                  <a:pt x="279" y="2041"/>
                </a:cubicBezTo>
                <a:cubicBezTo>
                  <a:pt x="286" y="2079"/>
                  <a:pt x="52" y="2177"/>
                  <a:pt x="52" y="2222"/>
                </a:cubicBezTo>
                <a:cubicBezTo>
                  <a:pt x="52" y="2267"/>
                  <a:pt x="271" y="2268"/>
                  <a:pt x="279" y="2313"/>
                </a:cubicBezTo>
                <a:cubicBezTo>
                  <a:pt x="287" y="2358"/>
                  <a:pt x="105" y="2441"/>
                  <a:pt x="98" y="2494"/>
                </a:cubicBezTo>
                <a:cubicBezTo>
                  <a:pt x="91" y="2547"/>
                  <a:pt x="242" y="2570"/>
                  <a:pt x="234" y="2630"/>
                </a:cubicBezTo>
                <a:cubicBezTo>
                  <a:pt x="226" y="2690"/>
                  <a:pt x="45" y="2804"/>
                  <a:pt x="52" y="2857"/>
                </a:cubicBezTo>
                <a:cubicBezTo>
                  <a:pt x="59" y="2910"/>
                  <a:pt x="271" y="2903"/>
                  <a:pt x="279" y="2948"/>
                </a:cubicBezTo>
                <a:cubicBezTo>
                  <a:pt x="287" y="2993"/>
                  <a:pt x="98" y="3076"/>
                  <a:pt x="98" y="3129"/>
                </a:cubicBezTo>
                <a:cubicBezTo>
                  <a:pt x="98" y="3182"/>
                  <a:pt x="294" y="3227"/>
                  <a:pt x="279" y="3265"/>
                </a:cubicBezTo>
                <a:cubicBezTo>
                  <a:pt x="264" y="3303"/>
                  <a:pt x="0" y="3303"/>
                  <a:pt x="7" y="3356"/>
                </a:cubicBezTo>
                <a:cubicBezTo>
                  <a:pt x="14" y="3409"/>
                  <a:pt x="169" y="3496"/>
                  <a:pt x="324" y="3583"/>
                </a:cubicBezTo>
              </a:path>
            </a:pathLst>
          </a:custGeom>
          <a:noFill/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55640" y="1341360"/>
          <a:ext cx="3024360" cy="501012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87280" y="1484280"/>
                <a:ext cx="230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476360" y="2205000"/>
                <a:ext cx="15130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547640" y="3284640"/>
                <a:ext cx="151164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619280" y="3933720"/>
                <a:ext cx="107964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187280" y="4941720"/>
                <a:ext cx="21607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763640" y="5734080"/>
                <a:ext cx="863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7" name=""/>
          <p:cNvGraphicFramePr/>
          <p:nvPr/>
        </p:nvGraphicFramePr>
        <p:xfrm>
          <a:off x="4932360" y="1341360"/>
          <a:ext cx="3024360" cy="487512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86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96000" y="1413000"/>
                <a:ext cx="11523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508720" y="2421000"/>
                <a:ext cx="187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724360" y="3141720"/>
                <a:ext cx="15814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5846760" y="5157720"/>
            <a:ext cx="160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4581360"/>
            <a:ext cx="57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443640" y="4724280"/>
                <a:ext cx="406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84720" y="5373720"/>
                <a:ext cx="8161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476280"/>
            <a:ext cx="828036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</a:rPr>
              <a:t>Вычисляя значения </a:t>
            </a: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sin </a:t>
            </a:r>
            <a:r>
              <a:rPr b="1" lang="ru-RU" sz="3000" spc="-1" strike="noStrike">
                <a:solidFill>
                  <a:srgbClr val="3333ff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cos</a:t>
            </a:r>
            <a:r>
              <a:rPr b="1" lang="ru-RU" sz="3000" spc="-1" strike="noStrike">
                <a:solidFill>
                  <a:srgbClr val="3333ff"/>
                </a:solidFill>
                <a:latin typeface="Arial"/>
              </a:rPr>
              <a:t> некоторого угла, ученик нашел, ч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</a:rPr>
              <a:t>Докажите, что он допустил ошибку.</a:t>
            </a:r>
            <a:r>
              <a:rPr b="1" lang="ru-RU" sz="33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692360" y="1557360"/>
                <a:ext cx="5670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,3</m:t>
                    </m:r>
                    <m:r>
                      <m:rPr>
                        <m:lit/>
                        <m:nor/>
                      </m:rPr>
                      <m:t xml:space="preserve">;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,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348000" y="620640"/>
            <a:ext cx="259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ff"/>
                </a:solidFill>
                <a:latin typeface="Arial"/>
              </a:rPr>
              <a:t>Вычислить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116000" y="1413000"/>
                <a:ext cx="7056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187280" y="2535120"/>
                <a:ext cx="460872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258920" y="4149720"/>
                <a:ext cx="453708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0,3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979640" y="620640"/>
            <a:ext cx="5545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ff"/>
                </a:solidFill>
                <a:latin typeface="Arial"/>
              </a:rPr>
              <a:t>Упростите выражение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692360" y="1628640"/>
                <a:ext cx="475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β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β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785960" y="2852640"/>
                <a:ext cx="6580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050920" y="4221000"/>
                <a:ext cx="3816360" cy="140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50920" y="549360"/>
            <a:ext cx="5545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ff"/>
                </a:solidFill>
                <a:latin typeface="Arial"/>
              </a:rPr>
              <a:t>Доказать тождество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476360" y="2492280"/>
                <a:ext cx="590400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332000" y="1341360"/>
                <a:ext cx="7200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476360" y="4437000"/>
                <a:ext cx="7128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1268280"/>
            <a:ext cx="792000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Без знания математики нельзя понять ни основ современной техники, ни того, как ученые изучают природные и социальные явлени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А. Н. Колмогор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476280"/>
            <a:ext cx="7920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Arial"/>
              </a:rPr>
              <a:t>Какой четверти принадлежит угол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125360"/>
            <a:ext cx="8280360" cy="1366920"/>
          </a:xfrm>
          <a:prstGeom prst="cloudCallout">
            <a:avLst>
              <a:gd name="adj1" fmla="val -28662"/>
              <a:gd name="adj2" fmla="val 40939"/>
            </a:avLst>
          </a:prstGeom>
          <a:solidFill>
            <a:srgbClr val="33cccc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24000" y="2421000"/>
            <a:ext cx="4896000" cy="4247640"/>
            <a:chOff x="2124000" y="2421000"/>
            <a:chExt cx="4896000" cy="4247640"/>
          </a:xfrm>
        </p:grpSpPr>
        <p:sp>
          <p:nvSpPr>
            <p:cNvPr id="110" name=""/>
            <p:cNvSpPr/>
            <p:nvPr/>
          </p:nvSpPr>
          <p:spPr>
            <a:xfrm flipV="1">
              <a:off x="4284720" y="2565000"/>
              <a:ext cx="0" cy="4103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437000"/>
              <a:ext cx="46800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32720" y="4365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84720" y="24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28472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8000" y="54936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еревести радианы в градусы и наоборо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155736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0000" y="1628640"/>
          <a:ext cx="7488000" cy="4392360"/>
        </p:xfrm>
        <a:graphic>
          <a:graphicData uri="http://schemas.openxmlformats.org/drawingml/2006/table">
            <a:tbl>
              <a:tblPr/>
              <a:tblGrid>
                <a:gridCol w="3530520"/>
                <a:gridCol w="3957480"/>
              </a:tblGrid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р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  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1773360"/>
                <a:ext cx="3585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692360" y="2781360"/>
                <a:ext cx="344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47640" y="3933720"/>
                <a:ext cx="465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979640" y="407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47640" y="5084640"/>
                <a:ext cx="441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979640" y="51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11280" y="1197000"/>
            <a:ext cx="57600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(f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(f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11200" y="765000"/>
                <a:ext cx="108756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187280" y="1557360"/>
                <a:ext cx="2592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16000" y="1268280"/>
                <a:ext cx="136836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любо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68360" y="2205000"/>
                <a:ext cx="974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58920" y="3068640"/>
                <a:ext cx="2232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68360" y="3645000"/>
                <a:ext cx="9810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8000" y="333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Тригонометрические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32000" y="2708280"/>
                <a:ext cx="1368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любо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022400" y="4149720"/>
                <a:ext cx="504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любое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кроме</m:t>
                    </m:r>
                    <m:r>
                      <m:t xml:space="preserve">±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±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±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258920" y="4508640"/>
                <a:ext cx="11304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187280" y="4797360"/>
                <a:ext cx="20671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95280" y="5084640"/>
                <a:ext cx="1093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08080" y="5661000"/>
                <a:ext cx="4484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любое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кроме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±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±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58920" y="6021360"/>
                <a:ext cx="12952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187280" y="6381720"/>
                <a:ext cx="23418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3" name=""/>
          <p:cNvGraphicFramePr/>
          <p:nvPr/>
        </p:nvGraphicFramePr>
        <p:xfrm>
          <a:off x="250920" y="941400"/>
          <a:ext cx="8327880" cy="5916600"/>
        </p:xfrm>
        <a:graphic>
          <a:graphicData uri="http://schemas.openxmlformats.org/drawingml/2006/table">
            <a:tbl>
              <a:tblPr/>
              <a:tblGrid>
                <a:gridCol w="832788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611280" y="2708280"/>
            <a:ext cx="57600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(f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(f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5661000"/>
            <a:ext cx="57600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(f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(f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149720"/>
            <a:ext cx="57600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(f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(f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700360" y="3789360"/>
            <a:ext cx="3384000" cy="2488320"/>
            <a:chOff x="2700360" y="3789360"/>
            <a:chExt cx="3384000" cy="2488320"/>
          </a:xfrm>
        </p:grpSpPr>
        <p:sp>
          <p:nvSpPr>
            <p:cNvPr id="148" name=""/>
            <p:cNvSpPr/>
            <p:nvPr/>
          </p:nvSpPr>
          <p:spPr>
            <a:xfrm flipV="1">
              <a:off x="4181760" y="3873240"/>
              <a:ext cx="0" cy="24044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00360" y="4970520"/>
              <a:ext cx="32090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32000" y="492876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54760" y="378936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403280" y="765000"/>
            <a:ext cx="1297080" cy="368280"/>
            <a:chOff x="1403280" y="765000"/>
            <a:chExt cx="1297080" cy="368280"/>
          </a:xfrm>
        </p:grpSpPr>
        <p:sp>
          <p:nvSpPr>
            <p:cNvPr id="153" name=""/>
            <p:cNvSpPr/>
            <p:nvPr/>
          </p:nvSpPr>
          <p:spPr>
            <a:xfrm>
              <a:off x="1628280" y="765000"/>
              <a:ext cx="1072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03280" y="765000"/>
              <a:ext cx="84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797480" y="836640"/>
                  <a:ext cx="226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6" name=""/>
          <p:cNvGrpSpPr/>
          <p:nvPr/>
        </p:nvGrpSpPr>
        <p:grpSpPr>
          <a:xfrm>
            <a:off x="6227640" y="765000"/>
            <a:ext cx="1441080" cy="383400"/>
            <a:chOff x="6227640" y="765000"/>
            <a:chExt cx="1441080" cy="383400"/>
          </a:xfrm>
        </p:grpSpPr>
        <p:sp>
          <p:nvSpPr>
            <p:cNvPr id="157" name=""/>
            <p:cNvSpPr/>
            <p:nvPr/>
          </p:nvSpPr>
          <p:spPr>
            <a:xfrm>
              <a:off x="6477480" y="765000"/>
              <a:ext cx="1191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27640" y="765000"/>
              <a:ext cx="9399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6665760" y="833400"/>
                  <a:ext cx="251280" cy="25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3492360" y="3429000"/>
            <a:ext cx="1873080" cy="368280"/>
            <a:chOff x="3492360" y="3429000"/>
            <a:chExt cx="1873080" cy="368280"/>
          </a:xfrm>
        </p:grpSpPr>
        <p:grpSp>
          <p:nvGrpSpPr>
            <p:cNvPr id="161" name=""/>
            <p:cNvGrpSpPr/>
            <p:nvPr/>
          </p:nvGrpSpPr>
          <p:grpSpPr>
            <a:xfrm>
              <a:off x="3492360" y="3429000"/>
              <a:ext cx="1152000" cy="368280"/>
              <a:chOff x="3492360" y="3429000"/>
              <a:chExt cx="1152000" cy="368280"/>
            </a:xfrm>
          </p:grpSpPr>
          <p:sp>
            <p:nvSpPr>
              <p:cNvPr id="162" name=""/>
              <p:cNvSpPr/>
              <p:nvPr/>
            </p:nvSpPr>
            <p:spPr>
              <a:xfrm>
                <a:off x="3692160" y="3429000"/>
                <a:ext cx="95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92360" y="3429000"/>
                <a:ext cx="75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4" name=""/>
                  <p:cNvSpPr txBox="1"/>
                  <p:nvPr/>
                </p:nvSpPr>
                <p:spPr>
                  <a:xfrm>
                    <a:off x="3842640" y="3500640"/>
                    <a:ext cx="2008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65" name=""/>
            <p:cNvGrpSpPr/>
            <p:nvPr/>
          </p:nvGrpSpPr>
          <p:grpSpPr>
            <a:xfrm>
              <a:off x="4068360" y="3429000"/>
              <a:ext cx="1297080" cy="368280"/>
              <a:chOff x="4068360" y="3429000"/>
              <a:chExt cx="1297080" cy="36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4293360" y="3429000"/>
                <a:ext cx="1072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068360" y="3429000"/>
                <a:ext cx="84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t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8" name=""/>
                  <p:cNvSpPr txBox="1"/>
                  <p:nvPr/>
                </p:nvSpPr>
                <p:spPr>
                  <a:xfrm>
                    <a:off x="4462560" y="3500640"/>
                    <a:ext cx="226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69" name="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Знаки фун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076720" y="1125360"/>
            <a:ext cx="3384360" cy="2489400"/>
            <a:chOff x="5076720" y="1125360"/>
            <a:chExt cx="3384360" cy="2489400"/>
          </a:xfrm>
        </p:grpSpPr>
        <p:sp>
          <p:nvSpPr>
            <p:cNvPr id="171" name=""/>
            <p:cNvSpPr/>
            <p:nvPr/>
          </p:nvSpPr>
          <p:spPr>
            <a:xfrm flipV="1">
              <a:off x="6558480" y="1209960"/>
              <a:ext cx="0" cy="2404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76720" y="2306520"/>
              <a:ext cx="32094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08720" y="226476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31120" y="112536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68360" y="1125360"/>
            <a:ext cx="3384000" cy="2489400"/>
            <a:chOff x="468360" y="1125360"/>
            <a:chExt cx="3384000" cy="2489400"/>
          </a:xfrm>
        </p:grpSpPr>
        <p:sp>
          <p:nvSpPr>
            <p:cNvPr id="176" name=""/>
            <p:cNvSpPr/>
            <p:nvPr/>
          </p:nvSpPr>
          <p:spPr>
            <a:xfrm flipV="1">
              <a:off x="1949760" y="1209960"/>
              <a:ext cx="0" cy="2404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8360" y="2306520"/>
              <a:ext cx="32090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00000" y="226476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22760" y="112536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908000" y="220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360" y="486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22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549360"/>
            <a:ext cx="83516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Arial"/>
              </a:rPr>
              <a:t>Покажите с помощью стрелки, какой знак имеет выражение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79280" y="2349360"/>
            <a:ext cx="8964360" cy="2734920"/>
            <a:chOff x="179280" y="2349360"/>
            <a:chExt cx="8964360" cy="273492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179280" y="2430360"/>
                  <a:ext cx="1968120" cy="80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3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255960" y="4222800"/>
                  <a:ext cx="181620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4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433680" y="2349360"/>
                  <a:ext cx="17398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6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433680" y="4385880"/>
                  <a:ext cx="17398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73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005880" y="2430360"/>
                  <a:ext cx="310248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1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5929200" y="4385880"/>
                  <a:ext cx="3214440" cy="67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"/>
            <p:cNvSpPr/>
            <p:nvPr/>
          </p:nvSpPr>
          <p:spPr>
            <a:xfrm>
              <a:off x="2297520" y="3407400"/>
              <a:ext cx="757080" cy="734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49440" y="3489840"/>
              <a:ext cx="45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48440" y="3407400"/>
              <a:ext cx="757080" cy="734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00360" y="3407400"/>
              <a:ext cx="5288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00360" y="549360"/>
            <a:ext cx="374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ff"/>
                </a:solidFill>
                <a:latin typeface="Arial"/>
              </a:rPr>
              <a:t>Сравнить</a:t>
            </a:r>
            <a:r>
              <a:rPr b="0" lang="en-US" sz="33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979640" y="4005360"/>
                <a:ext cx="1584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367240" y="475308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003640" y="4005360"/>
                <a:ext cx="1778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104840" y="1916280"/>
            <a:ext cx="166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148360" y="1700280"/>
                <a:ext cx="15620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425920" y="1557360"/>
            <a:ext cx="166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1773360"/>
                <a:ext cx="14414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547640" y="2852640"/>
                <a:ext cx="2092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5338800" y="2997360"/>
            <a:ext cx="125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076720" y="2852640"/>
                <a:ext cx="16034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348000" y="620640"/>
            <a:ext cx="259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Arial"/>
              </a:rPr>
              <a:t>Верно ли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42920" y="1268280"/>
          <a:ext cx="7488360" cy="5023080"/>
        </p:xfrm>
        <a:graphic>
          <a:graphicData uri="http://schemas.openxmlformats.org/drawingml/2006/table">
            <a:tbl>
              <a:tblPr/>
              <a:tblGrid>
                <a:gridCol w="3530520"/>
                <a:gridCol w="3957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ительного угла может принимать отрицательные зна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925640" y="1413000"/>
            <a:ext cx="214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521000" y="1447920"/>
                <a:ext cx="19335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35280" y="2205000"/>
                <a:ext cx="1439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63640" y="5516640"/>
                <a:ext cx="1800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364000" y="1413000"/>
                <a:ext cx="1656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2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148360" y="2205000"/>
                <a:ext cx="235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292720" y="3429000"/>
                <a:ext cx="20876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547640" y="3357720"/>
                <a:ext cx="23767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03280" y="4365720"/>
                <a:ext cx="302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148360" y="4365720"/>
                <a:ext cx="27367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1:09:49Z</dcterms:created>
  <dc:creator>администратор</dc:creator>
  <dc:description/>
  <dc:language>en-US</dc:language>
  <cp:lastModifiedBy>администратор</cp:lastModifiedBy>
  <dcterms:modified xsi:type="dcterms:W3CDTF">2008-02-05T13:07:58Z</dcterms:modified>
  <cp:revision>34</cp:revision>
  <dc:subject/>
  <dc:title>Применение основных тригонометрических тождеств к преобразованию выражений.  9 класс</dc:title>
</cp:coreProperties>
</file>