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0336-FB8A-46E1-A53B-B9AD488A3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3C13-06B8-4209-97CE-0352B7C1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D86B-FD51-4ABE-B9C6-F1D7FE9EA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1129-514C-43C2-8F69-5D76A4971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93AF-D5E5-42CE-A450-FE3038476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847F-1797-42D9-A4A5-93C8947B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C60F-EAFC-43D2-8F93-62AE2691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5867-613E-451F-B5F4-42136C11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9965-40BF-47D2-A129-0EA42D6F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479C-6F88-4EC7-81BD-44BD4C37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45EB-845F-41D8-B03A-7C8981EA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18B3-BA1C-42FA-81C6-49A843E7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F5ED-158D-4A81-9EB3-4C7BD82E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165C-CAE6-41D0-ACEA-185B5778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6C5C-5DAB-4CDC-A068-EA02A959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371D-2E33-4A25-8BF2-24947B485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E3BB-2BCD-48F5-9E20-8A6F5841A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401A-BC56-402B-B49F-338F295E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C936-922B-4E9E-88DF-ECB86BEE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09F6-101C-4960-B747-FD84FA07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0CED-F953-4620-BD54-0A354185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C044-C588-4807-A30C-7E69FE44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B3ED-270E-4E99-8FDB-8D7AFF13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DA51-56E0-40E3-8AC8-ED225284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3306-E855-4379-AFF4-F93FFE9E4C6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D617-D2F4-40C7-AB4B-F307A55808F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0066"/>
                </a:solidFill>
                <a:latin typeface="Arial"/>
              </a:rPr>
              <a:t>Звуки</a:t>
            </a:r>
            <a:endParaRPr b="1" lang="en-US" sz="6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547640" y="115920"/>
            <a:ext cx="5023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908000" y="115920"/>
            <a:ext cx="48596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4730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596360" y="5300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300720" y="227664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ритон -110 – 149 Г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5987880" cy="59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925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Иван Козловски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 тенор - 130 – 520 Гц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236000" y="5445000"/>
            <a:ext cx="863280" cy="863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547640" y="2205000"/>
            <a:ext cx="301320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14500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300720" y="2205000"/>
            <a:ext cx="30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искант - 260 - 1000 Г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5976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40590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236000" y="4797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476360" y="0"/>
            <a:ext cx="441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546900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851280" y="486900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8207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88214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611280" y="692280"/>
          <a:ext cx="7200360" cy="5654520"/>
        </p:xfrm>
        <a:graphic>
          <a:graphicData uri="http://schemas.openxmlformats.org/drawingml/2006/table">
            <a:tbl>
              <a:tblPr/>
              <a:tblGrid>
                <a:gridCol w="1755720"/>
                <a:gridCol w="544464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= 102 децибе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тивный самолет большой дальности при посадке (1500 м от конца ВПП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= 98 децибе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тивный самолет средней дальности на взлете (1500 м после подъема с ВПП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= 107 децибе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ьный гудок на расстоянии 7,5 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= 102 децибе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езд-экспресс при скорости 140 км/ч на расстоянии 25 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= 91 децибе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бус на расстоянии 7,5 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= 86 децибе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оцикл на расстоянии 7,5 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755640" y="1341360"/>
          <a:ext cx="6913080" cy="4392360"/>
        </p:xfrm>
        <a:graphic>
          <a:graphicData uri="http://schemas.openxmlformats.org/drawingml/2006/table">
            <a:tbl>
              <a:tblPr/>
              <a:tblGrid>
                <a:gridCol w="5872320"/>
                <a:gridCol w="1040760"/>
              </a:tblGrid>
              <a:tr h="48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омкая музы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бильная маш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сс, метр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шума, вредный для слух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варный поезд (33 м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ылесос (3 м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ьное движение на автострад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-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гов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ест листв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 бас – 80 – 350 Гц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 баритон -110 – 149 Гц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 тенор - 130 – 520 Гц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 дискант - 260 - 1000 Гц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 сопрано – 260 – 1050 Г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 колоратурное сопрано – до 1400 Г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740720" y="515772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6507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6146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Федор Иванович Шаляпи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родился в Казани 1(13) февраля 1873 году. Оперный певец, обладатель исключительным по красоте голосом. Бас. Оперный режиссер. Сохранилось 450 граммофонных запис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бас – 80 – 350 Гц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71440" y="836640"/>
            <a:ext cx="41641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44769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463716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44280"/>
            <a:ext cx="492444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16:09:12Z</dcterms:created>
  <dc:creator>Елена</dc:creator>
  <dc:description/>
  <dc:language>en-US</dc:language>
  <cp:lastModifiedBy>REM</cp:lastModifiedBy>
  <dcterms:modified xsi:type="dcterms:W3CDTF">2009-02-23T20:36:02Z</dcterms:modified>
  <cp:revision>21</cp:revision>
  <dc:subject/>
  <dc:title>Звуки</dc:title>
</cp:coreProperties>
</file>