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17A-5D73-4C3D-AE4B-48AD86BE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044-CE65-4C97-BCD3-B22D4B8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CDC-3CA2-4573-B286-3E3F0355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FF0-9028-48F9-BAED-69117AA7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F91-C314-4010-9D97-527A5CF1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80CE-0C8B-402A-A883-E1EAC94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35CE-CC35-451A-AED1-0E85DC8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B06-612C-468D-9662-ED5CDC2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0105-2A0A-480E-B00D-2341114A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FDC-F22F-45FF-9C77-0EEEA3F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098C-F2BC-431A-B661-8E16C9B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AED-5741-4D27-BBC8-86A5600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CD8-7CB6-4B90-9459-309CCA0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95F-C6CF-4844-AE51-C1A1E4F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92A-AC05-4097-A391-C19A153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8D7-3B03-4461-A620-142A0D39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A726-23B0-4A30-83E9-3C02DDD8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FD4-60FE-42D9-B958-EE45A99D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DAB-ED4D-420D-B7B8-1546FAD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13D-4A6B-4547-ADEF-2E02E25C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B2E-8C76-4F8B-9D98-015B871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D8F-ED5E-42BF-9463-8BC59F25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A39-B313-4901-9978-6258A1D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693-9BA6-4DBF-8C6E-D530665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50000">
                <a:srgbClr val="6699ff"/>
              </a:gs>
              <a:gs pos="100000">
                <a:srgbClr val="0014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1428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1428"/>
                </a:gs>
                <a:gs pos="50000">
                  <a:srgbClr val="699bcd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7C5-53DC-4677-8642-B97DDEB06C7F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428"/>
            </a:gs>
            <a:gs pos="50000">
              <a:srgbClr val="6699ff"/>
            </a:gs>
            <a:gs pos="100000">
              <a:srgbClr val="00142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50000">
                <a:srgbClr val="6699ff"/>
              </a:gs>
              <a:gs pos="100000">
                <a:srgbClr val="0014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1428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1428"/>
                </a:gs>
                <a:gs pos="50000">
                  <a:srgbClr val="699bcd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F9E-7B3F-4841-9074-D7A3A7A1577E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428"/>
            </a:gs>
            <a:gs pos="50000">
              <a:srgbClr val="6699ff"/>
            </a:gs>
            <a:gs pos="100000">
              <a:srgbClr val="00142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4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99"/>
                </a:solidFill>
                <a:latin typeface="Times New Roman"/>
              </a:rPr>
              <a:t>Файлы, папки,  ярлыки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2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здание нового ярлыка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соб 1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989000"/>
          <a:ext cx="2160360" cy="17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89000"/>
                    <a:ext cx="216036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31640" y="1905120"/>
            <a:ext cx="5302440" cy="36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dddd"/>
                </a:solidFill>
                <a:latin typeface="Times New Roman"/>
              </a:rPr>
              <a:t>1. Откройте папку с объектом, для которого вы хотите создать ярлык.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dddd"/>
                </a:solidFill>
                <a:latin typeface="Times New Roman"/>
              </a:rPr>
              <a:t>2. Правой кнопкой мыши перетащите объект туда, где вам нужен ярлык.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dddd"/>
                </a:solidFill>
                <a:latin typeface="Times New Roman"/>
              </a:rPr>
              <a:t>3. В контекстном меню выберите СОЗДАТЬ ЯРЛЫК. 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4000"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здание нового ярлыка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соб 2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916280"/>
          <a:ext cx="2376360" cy="23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16280"/>
                    <a:ext cx="2376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92360" y="1904760"/>
            <a:ext cx="4942080" cy="35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1. Щёлкнуть правой кнопкой мыши на Рабочий стол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2. Выбрать команду СОЗДАТЬ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3. Выбрать в контекстном меню ЯРЛЫК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4. Ввести новое имя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9000">
    <p:checke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2" dur="1" fill="hold"/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айл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Файл - это определённое количество информации, хранящееся во внешней памяти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Это некоторая последовательность байтов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Каждый файл имеет имя. Имя состоит из двух частей: левой и правой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По типу файла компьютер определяет: этот файл -  программа или этот файл - документ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Если в типе файла стоят обозначения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exe 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com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, то это программы, всё остальное документы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7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пк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1700280"/>
          <a:ext cx="2376360" cy="296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237636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4920" y="2133720"/>
            <a:ext cx="4799160" cy="23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Папка - это группа файлов и других папок, объединённых по какому-либо принципу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9000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ды папок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ddddd"/>
                </a:solidFill>
                <a:latin typeface="Times New Roman"/>
              </a:rPr>
              <a:t>Папки делятся на два вида:</a:t>
            </a: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3500" spc="-1" strike="noStrike" u="sng">
                <a:solidFill>
                  <a:srgbClr val="dddddd"/>
                </a:solidFill>
                <a:uFillTx/>
                <a:latin typeface="Times New Roman"/>
              </a:rPr>
              <a:t>Системные папки</a:t>
            </a:r>
            <a:r>
              <a:rPr b="0" lang="ru-RU" sz="3500" spc="-1" strike="noStrike">
                <a:solidFill>
                  <a:srgbClr val="dddddd"/>
                </a:solidFill>
                <a:latin typeface="Times New Roman"/>
              </a:rPr>
              <a:t> и </a:t>
            </a:r>
            <a:r>
              <a:rPr b="0" lang="ru-RU" sz="3500" spc="-1" strike="noStrike" u="sng">
                <a:solidFill>
                  <a:srgbClr val="dddddd"/>
                </a:solidFill>
                <a:uFillTx/>
                <a:latin typeface="Times New Roman"/>
              </a:rPr>
              <a:t>Рабочие папки</a:t>
            </a:r>
            <a:r>
              <a:rPr b="0" lang="ru-RU" sz="35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5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стемные папки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62040" y="2090880"/>
          <a:ext cx="2830320" cy="27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040" y="2090880"/>
                    <a:ext cx="28303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6920" y="1904760"/>
            <a:ext cx="4367160" cy="25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К системным папкам относятся папки, которые создаются программами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9000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3" dur="1" fill="hold"/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бочие папки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2060640"/>
          <a:ext cx="332568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33256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11640" y="2133360"/>
            <a:ext cx="4464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К рабочим относятся папки, которые вы сделал сами, или папки, созданные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ОС для вас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9000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здание новой папки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соб 1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989000"/>
          <a:ext cx="3046320" cy="280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989000"/>
                    <a:ext cx="3046320" cy="28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360" y="1699920"/>
            <a:ext cx="54007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1) откройте папку МОЙ КОМПЬЮТЕР;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2) откройте ту папку, внутри которой вы хотите поместить свою папку, например, откройте папку С:;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3) в окне папки диска С: установите указатель мыши на свободное место и щёлкните правой кнопкой мыши;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4) Появится контекстное меню, в котором щёлкните по команде СОЗДАТЬ;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5) на экране появится подменю, там выберете команду ПАПКА;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ddddd"/>
                </a:solidFill>
                <a:latin typeface="Times New Roman"/>
              </a:rPr>
              <a:t>6) на экране появится новая папка, введите новое имя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0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здание новой папки.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соб 2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1916280"/>
          <a:ext cx="3386160" cy="33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16280"/>
                    <a:ext cx="3386160" cy="33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55640" y="2133360"/>
            <a:ext cx="41497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ddddd"/>
                </a:solidFill>
                <a:latin typeface="Times New Roman"/>
              </a:rPr>
              <a:t>1.Нажать правой кнопкой мыши на свободном месте рабочего стола.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ddddd"/>
                </a:solidFill>
                <a:latin typeface="Times New Roman"/>
              </a:rPr>
              <a:t>2.В появившемся меню, выбрать команду СОЗДАТЬ.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ddddd"/>
                </a:solidFill>
                <a:latin typeface="Times New Roman"/>
              </a:rPr>
              <a:t>3.Затем выбрать ПАПКА.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ddddd"/>
                </a:solidFill>
                <a:latin typeface="Times New Roman"/>
              </a:rPr>
              <a:t>4.Ввести имя папки.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9000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Ярлык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76360" y="1915920"/>
            <a:ext cx="5662440" cy="35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ddd"/>
                </a:solidFill>
                <a:uFillTx/>
                <a:latin typeface="Times New Roman"/>
              </a:rPr>
              <a:t>Ярлык</a:t>
            </a: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 - специальный значок, указывающий на конкретный файл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В левом нижнем углу располагается маленькая изогнутая стрелка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844640"/>
          <a:ext cx="190188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44640"/>
                    <a:ext cx="1901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9000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7:35:12Z</dcterms:created>
  <dc:creator>19092002</dc:creator>
  <dc:description/>
  <dc:language>en-US</dc:language>
  <cp:lastModifiedBy>Irina</cp:lastModifiedBy>
  <dcterms:modified xsi:type="dcterms:W3CDTF">2007-11-23T03:40:19Z</dcterms:modified>
  <cp:revision>6</cp:revision>
  <dc:subject/>
  <dc:title>Файлы, папки, ярлыки.</dc:title>
</cp:coreProperties>
</file>