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7EB-5345-49F6-9262-519E0DF6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A3B-43B8-44AA-BBA0-EF7C2764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69E-4C5A-4969-BE58-391526D8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BD8-F22E-4F80-94D4-840977BB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9E0-BA51-4C14-A993-2DA2751C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F86-0291-41D8-B99A-277807D3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C4F-0F2C-46B6-AE3E-5EDD54A6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AD6-A343-4C55-9BCA-60144426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040-AB38-4DCE-9720-20AEDB31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6A0-08E0-4BF2-ADB2-675937DA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C5B-034A-431A-AD8F-DB5C5F2E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910-59A8-46D7-B9A6-CF8242A7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DAB7-C217-46F8-918B-88D49F223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Times New Roman"/>
              </a:rPr>
              <a:t>Семинар по теме:</a:t>
            </a:r>
            <a:br>
              <a:rPr sz="3800"/>
            </a:br>
            <a:r>
              <a:rPr b="1" lang="en-US" sz="3800" spc="-1" strike="noStrike">
                <a:solidFill>
                  <a:srgbClr val="0000ff"/>
                </a:solidFill>
                <a:latin typeface="Times New Roman"/>
              </a:rPr>
              <a:t> «Задачи, решаемые с помощью интегралов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60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читель математики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kk-KZ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тег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СШ №3 г. Аксая Аргодяеева В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Ход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подводит учащихся к тому, что данный случай можно свести к предыдущему, если в формуле (1) полож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рая вопрос по карточке №60 школьники указывают на два способа вычисления площади фигуры на рис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в классе выборочно рассматриваются способы вычисления площадей фигур из домашнего задания к семин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58920" y="3284640"/>
                <a:ext cx="633744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124000" y="1989000"/>
                <a:ext cx="1292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ступление учащегося из четвертой группы проходит только устно, так как докладчик касается вопросов уже разобранных на уроке геометрии (или факультатив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выступление служит целям систематизации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сматривается решение одной задачи по эт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Задача «О каш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скар насыпал в цилиндрическую кастрюлю немного пшена и спросил соседку: «Сколько нужно налить воды, чтобы получилась вкусная каша?» «Это очень просто,  - ответила соседка. – Наклони кастрюлю, постучи, чтобы крупа пересыпалась и закрыла ровно половину дна. Теперь заметь точку на стенке кастрюли у края, до которого поднялась крупа и зажми ее пальцем. До этого уровня надо налить воду!» - «Так ведь пшена можно насыпать больше или меньше, да и кастрюли бывают разные  - широкие, узкие» - усомнился Аскар. «Все равно, мой способ годится в любом случае,» - гордо ответила соседк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окажите, что соседка права: отношение объемов воды 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 и крупы 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 по ее рецепту для любой цилиндрической кастрюли получается одинаковым.  Найдите, чему равно это отношение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1541520"/>
            <a:ext cx="8893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Решение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kk-KZ" sz="4400" spc="-1" strike="noStrike">
                <a:solidFill>
                  <a:srgbClr val="0000ff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96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местим исследуемую модель в систему координат, чтобы основание цилиндра (кастрюли) лежало в плоскости ХОУ, а центр основания О стал началом координат. Через точку х на оси Ох, </a:t>
            </a:r>
            <a:r>
              <a:rPr b="0" lang="kk-KZ" sz="22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]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им сечение тела  (т.е. горки крупы внутри кастрюли) плоскостью, перпендикулярной оси Ох и параллельной оси Оу. Треугольник получившейся в сечении, обозначим чере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чевидно, что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  AB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ог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начит</a:t>
            </a: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к. т.М принадлежит окружности радиуса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имеет координат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;у), получаем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x) =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N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h(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2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40000" y="2852640"/>
            <a:ext cx="1223640" cy="71640"/>
            <a:chOff x="2340000" y="2852640"/>
            <a:chExt cx="1223640" cy="71640"/>
          </a:xfrm>
        </p:grpSpPr>
        <p:sp>
          <p:nvSpPr>
            <p:cNvPr id="102" name=""/>
            <p:cNvSpPr/>
            <p:nvPr/>
          </p:nvSpPr>
          <p:spPr>
            <a:xfrm>
              <a:off x="2340000" y="2852640"/>
              <a:ext cx="136080" cy="71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7560" y="2852640"/>
              <a:ext cx="136080" cy="71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971640" y="2852640"/>
            <a:ext cx="5904720" cy="791640"/>
            <a:chOff x="971640" y="2852640"/>
            <a:chExt cx="5904720" cy="7916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971640" y="2937600"/>
                  <a:ext cx="3835800" cy="70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O</m:t>
                          </m:r>
                        </m:den>
                      </m:f>
                      <m:r>
                        <m:t xml:space="preserve">т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е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N</m:t>
                          </m:r>
                        </m:num>
                        <m:den>
                          <m:r>
                            <m:t xml:space="preserve">h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5356080" y="2852640"/>
                  <a:ext cx="1520280" cy="75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N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hy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835280" y="3789360"/>
                <a:ext cx="30686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N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величина не зависит от размеров цилиндра (кастрюл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195640" y="1341360"/>
                <a:ext cx="41767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76360" y="2565360"/>
                <a:ext cx="58323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ө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140360" y="3716280"/>
                <a:ext cx="18000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заключении учитель еще раз перечисляет те виды задач, для решения которых применяются интегралы, подводит итоги, оценивает работу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280" y="1773360"/>
            <a:ext cx="8964720" cy="3155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6021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67040" y="115920"/>
            <a:ext cx="4692600" cy="662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71640" y="429264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4221000"/>
            <a:ext cx="31669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9000" y="331920"/>
            <a:ext cx="4815000" cy="6337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43280" y="4292640"/>
            <a:ext cx="309708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ff"/>
                </a:solidFill>
                <a:latin typeface="Times New Roman"/>
              </a:rPr>
              <a:t>Подготовка к семина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800" spc="-1" strike="noStrike">
                <a:solidFill>
                  <a:srgbClr val="000000"/>
                </a:solidFill>
                <a:latin typeface="Times New Roman"/>
              </a:rPr>
              <a:t>Необходимо правильно спланировать изучение темы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Задачи, решаемые с помощью интегралов»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и создать условия для самостоятельной работы школьников с учебником. Составить заранее план семинара и заблаго -временно раздать задания учащимся для подготовки к нему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14640" y="115920"/>
            <a:ext cx="4833720" cy="6524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4149720"/>
            <a:ext cx="3313080" cy="194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615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6093000"/>
            <a:ext cx="576360" cy="47592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6155" h="21600">
                <a:moveTo>
                  <a:pt x="0" y="0"/>
                </a:moveTo>
                <a:lnTo>
                  <a:pt x="26155" y="0"/>
                </a:lnTo>
                <a:lnTo>
                  <a:pt x="26155" y="21600"/>
                </a:lnTo>
                <a:lnTo>
                  <a:pt x="0" y="21600"/>
                </a:lnTo>
                <a:close/>
              </a:path>
              <a:path fill="lightenLess" w="26155" h="21600">
                <a:moveTo>
                  <a:pt x="0" y="0"/>
                </a:moveTo>
                <a:lnTo>
                  <a:pt x="26155" y="0"/>
                </a:lnTo>
                <a:lnTo>
                  <a:pt x="24755" y="1400"/>
                </a:lnTo>
                <a:lnTo>
                  <a:pt x="1400" y="1400"/>
                </a:lnTo>
                <a:close/>
              </a:path>
              <a:path fill="darken" w="26155" h="21600">
                <a:moveTo>
                  <a:pt x="26155" y="0"/>
                </a:moveTo>
                <a:lnTo>
                  <a:pt x="26155" y="21600"/>
                </a:lnTo>
                <a:lnTo>
                  <a:pt x="24755" y="20200"/>
                </a:lnTo>
                <a:lnTo>
                  <a:pt x="24755" y="1400"/>
                </a:lnTo>
                <a:close/>
              </a:path>
              <a:path fill="darkenLess" w="26155" h="21600">
                <a:moveTo>
                  <a:pt x="26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5" y="20200"/>
                </a:lnTo>
                <a:close/>
              </a:path>
              <a:path fill="lighten" w="26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5" h="21600">
                <a:moveTo>
                  <a:pt x="6071" y="10800"/>
                </a:moveTo>
                <a:lnTo>
                  <a:pt x="20084" y="3794"/>
                </a:lnTo>
                <a:lnTo>
                  <a:pt x="200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476280"/>
            <a:ext cx="84978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а) Построить графики функций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, образующие с Ох криволинейную трапецию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б) Найти абсциссы точек пересечения графиков функций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друг с другом и с осью Ох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в) Если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3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, то                                                    где х=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абсцисса точки пересечения графиков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, а х=а и х=с абсциссы точек ∩ графиков с осью О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427640" y="3141720"/>
                <a:ext cx="39607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68360" y="580536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7355" y="10800"/>
                </a:moveTo>
                <a:lnTo>
                  <a:pt x="21368" y="3794"/>
                </a:lnTo>
                <a:lnTo>
                  <a:pt x="213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134136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а) Найти на оси Ох отрезок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a,b]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, на котором заданы функци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24000" y="2276640"/>
                <a:ext cx="856908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остроить графики функций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и 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для х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;b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Если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4360" y="5734080"/>
            <a:ext cx="502920" cy="50328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5805360"/>
            <a:ext cx="792360" cy="476280"/>
          </a:xfrm>
          <a:custGeom>
            <a:avLst/>
            <a:gdLst>
              <a:gd name="textAreaLeft" fmla="*/ 30600 w 792360"/>
              <a:gd name="textAreaRight" fmla="*/ 761760 w 792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24" h="21600">
                <a:moveTo>
                  <a:pt x="0" y="0"/>
                </a:moveTo>
                <a:lnTo>
                  <a:pt x="35924" y="0"/>
                </a:lnTo>
                <a:lnTo>
                  <a:pt x="35924" y="21600"/>
                </a:lnTo>
                <a:lnTo>
                  <a:pt x="0" y="21600"/>
                </a:lnTo>
                <a:close/>
              </a:path>
              <a:path fill="lightenLess" w="35924" h="21600">
                <a:moveTo>
                  <a:pt x="0" y="0"/>
                </a:moveTo>
                <a:lnTo>
                  <a:pt x="35924" y="0"/>
                </a:lnTo>
                <a:lnTo>
                  <a:pt x="34524" y="1400"/>
                </a:lnTo>
                <a:lnTo>
                  <a:pt x="1400" y="1400"/>
                </a:lnTo>
                <a:close/>
              </a:path>
              <a:path fill="darken" w="35924" h="21600">
                <a:moveTo>
                  <a:pt x="35924" y="0"/>
                </a:moveTo>
                <a:lnTo>
                  <a:pt x="35924" y="21600"/>
                </a:lnTo>
                <a:lnTo>
                  <a:pt x="34524" y="20200"/>
                </a:lnTo>
                <a:lnTo>
                  <a:pt x="34524" y="1400"/>
                </a:lnTo>
                <a:close/>
              </a:path>
              <a:path fill="darkenLess" w="35924" h="21600">
                <a:moveTo>
                  <a:pt x="3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24" y="20200"/>
                </a:lnTo>
                <a:close/>
              </a:path>
              <a:path fill="lighten" w="3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24" h="21600">
                <a:moveTo>
                  <a:pt x="10955" y="10800"/>
                </a:moveTo>
                <a:lnTo>
                  <a:pt x="24968" y="3794"/>
                </a:lnTo>
                <a:lnTo>
                  <a:pt x="249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413000"/>
            <a:ext cx="85708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300" spc="-1" strike="noStrike">
                <a:solidFill>
                  <a:srgbClr val="000000"/>
                </a:solidFill>
                <a:latin typeface="Times New Roman"/>
              </a:rPr>
              <a:t>а) Найти отрезок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]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, на котором задана функция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300" spc="-1" strike="noStrike">
                <a:solidFill>
                  <a:srgbClr val="000000"/>
                </a:solidFill>
                <a:latin typeface="Times New Roman"/>
              </a:rPr>
              <a:t>б) Построить график функции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33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[a;b]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в) Если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[a;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]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148360" y="3573360"/>
                <a:ext cx="38145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260280"/>
            <a:ext cx="21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рок в форме ле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40464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бить класс на пять груп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981000"/>
            <a:ext cx="33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дать каждой группе задания по те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63700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ниторинг по пройденному материа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1844640"/>
            <a:ext cx="34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руппа изучает соответствующие разделы теории в учебнике и дополнительной литерату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789360"/>
            <a:ext cx="244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рок повторения темы «Функции и их графи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797360"/>
            <a:ext cx="431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домашнюю работу включить следующие задания: в отдельных тетрадях построить пары графиков функций в одной системе координат. Найти графическим и аналитическим способом абсциссы точек их пересе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2997360"/>
            <a:ext cx="27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руппа готовит решение одного или двух задач по данной т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35640" y="4292640"/>
            <a:ext cx="352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) Учитель проводит консультации для каждой группы. Выясняет, кто будет докладчиком от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) Готовит карт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8720" y="5734080"/>
            <a:ext cx="32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думать оформление доски. Центральная часть отводится под таблиц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987640" y="2565360"/>
            <a:ext cx="2735280" cy="1727280"/>
            <a:chOff x="2987640" y="2565360"/>
            <a:chExt cx="2735280" cy="1727280"/>
          </a:xfrm>
        </p:grpSpPr>
        <p:sp>
          <p:nvSpPr>
            <p:cNvPr id="56" name=""/>
            <p:cNvSpPr/>
            <p:nvPr/>
          </p:nvSpPr>
          <p:spPr>
            <a:xfrm>
              <a:off x="2987640" y="2565360"/>
              <a:ext cx="2735280" cy="172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74920" y="285300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Планирование системы уроков по теме «Интеграл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flipH="1" flipV="1">
            <a:off x="2700000" y="691920"/>
            <a:ext cx="1584360" cy="1873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427640" y="691920"/>
            <a:ext cx="1081080" cy="1873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125360"/>
            <a:ext cx="4032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ва урока посвятить изучению способов вычисления как отдельных интегралов, так и тех, которые появляются в результате решения задач на вычисление площадей криволинейных трапе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00360" y="2349000"/>
            <a:ext cx="792000" cy="35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716360" y="1557360"/>
            <a:ext cx="863640" cy="10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555640" y="2852640"/>
            <a:ext cx="647640" cy="144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64000" y="2636640"/>
            <a:ext cx="648000" cy="21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123640" y="3573360"/>
            <a:ext cx="863640" cy="2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724360" y="3284640"/>
            <a:ext cx="360360" cy="71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76720" y="4292640"/>
            <a:ext cx="79056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4005360"/>
            <a:ext cx="107964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4292640"/>
            <a:ext cx="936360" cy="1368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«Решение задач с помощью интеграл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общить и углубить знания учащихся по изучаем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действовать развитию математического мышления и творческих способностей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итывать такие качества личности, как познавательная активность, самостоятельность, упорство в достижении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таблица, карточки, доска, м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Краткое изложение матери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стная работа (с использованием табли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просит указать изображения криволинейных трапеций на таблиц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ает вопрос: «Как найти площади остальных фигур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м принцип решения математических задач – сведение задачи к извест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Учащиеся предполагают: для того чтобы вычисли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олее сложной фигуры, необходимо выделить в ней криволинейные трапеции. Вычислить их площади и найт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 сумму площад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2060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868" h="21600">
                <a:moveTo>
                  <a:pt x="1293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868" h="21600">
                <a:moveTo>
                  <a:pt x="10358" y="8224"/>
                </a:moveTo>
                <a:lnTo>
                  <a:pt x="14222" y="8224"/>
                </a:lnTo>
                <a:lnTo>
                  <a:pt x="14222" y="15221"/>
                </a:lnTo>
                <a:lnTo>
                  <a:pt x="15510" y="15221"/>
                </a:lnTo>
                <a:lnTo>
                  <a:pt x="15510" y="16144"/>
                </a:lnTo>
                <a:lnTo>
                  <a:pt x="10358" y="16144"/>
                </a:lnTo>
                <a:lnTo>
                  <a:pt x="10358" y="15221"/>
                </a:lnTo>
                <a:lnTo>
                  <a:pt x="11646" y="15221"/>
                </a:lnTo>
                <a:lnTo>
                  <a:pt x="11646" y="9129"/>
                </a:lnTo>
                <a:lnTo>
                  <a:pt x="10358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 Работа с групп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ог сказанному подводит представитель 1-ой группы, который подробно описывает способ вычисления площади фигуры ОАВ на рис. 6           из таблицы      и записывают основные этапы вычислений в первом из пунктирных прямоугольников (под символом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А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роить графики функц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ующие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риволинейную трапе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Найти абсциссы точек пересечения графиков функци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 с другом и с ось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Ес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                                          гд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бсцисса то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сечения графико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=а и х=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бсциссы точе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рафиков с ось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771640" y="4653000"/>
                <a:ext cx="25210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80360" y="1773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7448" y="3794"/>
                </a:moveTo>
                <a:lnTo>
                  <a:pt x="21460" y="10800"/>
                </a:lnTo>
                <a:lnTo>
                  <a:pt x="74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56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Учитель задает вопрос классу: “На чьих карточках вопросы соответствующие докладу 1-ой групп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щиеся поочередно зачитывают вопросы №27, 38, 45 и отвечают на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второй представитель 1-ой группы демонстрирует, на свободной части доски, решение одной задачи из учебника, которую они выбрали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Ход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Ход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386000"/>
            <a:ext cx="8497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Представитель 2-ой группы выводит формулу для вычисления фигуры типа, той, что показана на рис.7    из таблицы. Применение формулы сводится к следующему алгорит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) Найти на оси Ох отрез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,b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 котором заданы фун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k-KZ" sz="2200" spc="-1" strike="noStrike">
                <a:solidFill>
                  <a:srgbClr val="000000"/>
                </a:solidFill>
                <a:latin typeface="Times New Roman"/>
              </a:rPr>
              <a:t>Пункты а) - в) записывает на доске под рис.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чащиеся разбирают ответы на вопросы №38, 39 и заслушивают решение типичной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68360" y="3357720"/>
                <a:ext cx="828036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остроить графики функций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и 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для х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;b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Если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sSub>
                          <m:e>
                            <m:r>
                              <m:t xml:space="preserve">иS</m:t>
                            </m:r>
                          </m:e>
                          <m:sub>
                            <m:r>
                              <m:t xml:space="preserve">ә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956720" y="177336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efe"/>
            </a:gs>
            <a:gs pos="100000">
              <a:srgbClr val="ab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Ход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Ученик 3-ей группы рассказывает о решении задач на вычисление площади фигуры, ограниченной графиком фун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)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)&lt;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и прямыми х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и х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 Основные моменты своего доклада он записывает под рис.8       в третьем пунктирном прямоугольнике. Эти моменты сводятся к следующ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) Найти отрез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 котором задана функц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б) Построить график фун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;b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;b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427640" y="4797360"/>
                <a:ext cx="30956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67640" y="2421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17806" y="13460"/>
                </a:lnTo>
                <a:lnTo>
                  <a:pt x="3794" y="204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2:23:45Z</dcterms:created>
  <dc:creator>Английский</dc:creator>
  <dc:description/>
  <dc:language>en-US</dc:language>
  <cp:lastModifiedBy>User</cp:lastModifiedBy>
  <dcterms:modified xsi:type="dcterms:W3CDTF">2008-11-19T15:22:14Z</dcterms:modified>
  <cp:revision>75</cp:revision>
  <dc:subject/>
  <dc:title>Слайд 1</dc:title>
</cp:coreProperties>
</file>